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363A89-3556-4E0D-ABB0-F673EFB6853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378000"/>
            <a:ext cx="853452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86868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28600" y="3962160"/>
            <a:ext cx="86868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D09E0C-6313-49E9-AD5B-92A3132502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520" y="378000"/>
            <a:ext cx="853452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80000" y="129528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28600" y="396216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80000" y="396216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81C115-A517-4C14-8F51-D3A35350D42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80520" y="378000"/>
            <a:ext cx="853452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279684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65840" y="1295280"/>
            <a:ext cx="279684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102720" y="1295280"/>
            <a:ext cx="279684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228600" y="3962160"/>
            <a:ext cx="279684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65840" y="3962160"/>
            <a:ext cx="279684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102720" y="3962160"/>
            <a:ext cx="279684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94F58A-C640-4F72-8FCD-9E405F36A75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520" y="378000"/>
            <a:ext cx="853452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228600" y="129528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520" y="378000"/>
            <a:ext cx="853452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520" y="378000"/>
            <a:ext cx="853452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42390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295280"/>
            <a:ext cx="42390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520" y="378000"/>
            <a:ext cx="853452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380520" y="378000"/>
            <a:ext cx="8534520" cy="284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378000"/>
            <a:ext cx="853452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80000" y="1295280"/>
            <a:ext cx="42390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228600" y="396216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520" y="378000"/>
            <a:ext cx="853452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228600" y="129528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E769F6-8E07-4B4A-A957-90AA2702541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378000"/>
            <a:ext cx="853452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42390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0000" y="129528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80000" y="396216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80520" y="378000"/>
            <a:ext cx="853452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80000" y="129528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28600" y="3962160"/>
            <a:ext cx="86868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378000"/>
            <a:ext cx="853452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86868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228600" y="3962160"/>
            <a:ext cx="86868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80520" y="378000"/>
            <a:ext cx="853452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80000" y="129528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228600" y="396216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80000" y="396216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80520" y="378000"/>
            <a:ext cx="853452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279684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165840" y="1295280"/>
            <a:ext cx="279684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102720" y="1295280"/>
            <a:ext cx="279684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228600" y="3962160"/>
            <a:ext cx="279684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165840" y="3962160"/>
            <a:ext cx="279684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102720" y="3962160"/>
            <a:ext cx="279684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520" y="378000"/>
            <a:ext cx="853452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78B56B-CC53-49F0-A8BB-88C2F97B08E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378000"/>
            <a:ext cx="853452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42390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000" y="1295280"/>
            <a:ext cx="42390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2CF840-6DFD-4928-91E9-2B7D00B43E9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0520" y="378000"/>
            <a:ext cx="853452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208FB1-7F4E-4392-9C59-84E0ECBB9B8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80520" y="378000"/>
            <a:ext cx="8534520" cy="284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B4601C-CEAF-48FE-8025-20CD26D89CE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520" y="378000"/>
            <a:ext cx="853452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295280"/>
            <a:ext cx="42390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228600" y="396216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E473B2-6937-47E5-AD21-964806A700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520" y="378000"/>
            <a:ext cx="853452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42390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29528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80000" y="396216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4E739D-8776-4EA5-9D66-A143A77CF4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78000"/>
            <a:ext cx="853452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0000" y="129528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28600" y="3962160"/>
            <a:ext cx="86868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A5017B-D8BB-4229-984E-56F99DF8EB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228600" y="129528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Symbol"/>
              <a:buChar char="¨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3" marL="1562040" indent="-22860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Kino MT"/>
              <a:buChar char="—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981080" indent="-22860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Kino MT"/>
              <a:buChar char="—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981080" indent="-22860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Kino MT"/>
              <a:buChar char="—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981080" indent="-22860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Kino MT"/>
              <a:buChar char="—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"/>
          <p:cNvSpPr/>
          <p:nvPr/>
        </p:nvSpPr>
        <p:spPr>
          <a:xfrm>
            <a:off x="6232680" y="6840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52280" y="1066680"/>
            <a:ext cx="6858000" cy="76320"/>
          </a:xfrm>
          <a:prstGeom prst="rect">
            <a:avLst/>
          </a:prstGeom>
          <a:gradFill rotWithShape="0">
            <a:gsLst>
              <a:gs pos="0">
                <a:srgbClr val="156b13"/>
              </a:gs>
              <a:gs pos="100000">
                <a:srgbClr val="ddebcf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380520" y="378000"/>
            <a:ext cx="853452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8502480" y="6458040"/>
            <a:ext cx="60984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돋움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E45A4-C11C-42CC-AB2F-FD270AF0172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돋움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60200" y="196920"/>
            <a:ext cx="5029200" cy="75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7115040" y="128520"/>
            <a:ext cx="1906560" cy="307080"/>
            <a:chOff x="7115040" y="128520"/>
            <a:chExt cx="1906560" cy="307080"/>
          </a:xfrm>
        </p:grpSpPr>
        <p:graphicFrame>
          <p:nvGraphicFramePr>
            <p:cNvPr id="7" name=""/>
            <p:cNvGraphicFramePr/>
            <p:nvPr/>
          </p:nvGraphicFramePr>
          <p:xfrm>
            <a:off x="7115040" y="152280"/>
            <a:ext cx="274680" cy="2826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8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7115040" y="152280"/>
                      <a:ext cx="274680" cy="282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" name=""/>
            <p:cNvSpPr/>
            <p:nvPr/>
          </p:nvSpPr>
          <p:spPr>
            <a:xfrm>
              <a:off x="7391520" y="128520"/>
              <a:ext cx="1630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LG Electronics, Inc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3840" cy="1903320"/>
          </a:xfrm>
          <a:prstGeom prst="rect">
            <a:avLst/>
          </a:prstGeom>
          <a:gradFill rotWithShape="0">
            <a:gsLst>
              <a:gs pos="0">
                <a:srgbClr val="156b13"/>
              </a:gs>
              <a:gs pos="50000">
                <a:srgbClr val="ddebcf"/>
              </a:gs>
              <a:gs pos="100000">
                <a:srgbClr val="156b13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969696"/>
            </a:outerShdw>
          </a:effectLst>
        </p:spPr>
        <p:txBody>
          <a:bodyPr lIns="93600" rIns="93600" tIns="46800" bIns="4680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1" i="1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609480"/>
            <a:ext cx="8686800" cy="56390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32680" y="6840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066680" y="1447920"/>
            <a:ext cx="7772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7008840" y="227160"/>
            <a:ext cx="1906560" cy="307080"/>
            <a:chOff x="7008840" y="227160"/>
            <a:chExt cx="1906560" cy="307080"/>
          </a:xfrm>
        </p:grpSpPr>
        <p:graphicFrame>
          <p:nvGraphicFramePr>
            <p:cNvPr id="51" name=""/>
            <p:cNvGraphicFramePr/>
            <p:nvPr/>
          </p:nvGraphicFramePr>
          <p:xfrm>
            <a:off x="7008840" y="250920"/>
            <a:ext cx="274680" cy="2826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52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7008840" y="250920"/>
                      <a:ext cx="274680" cy="282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3" name=""/>
            <p:cNvSpPr/>
            <p:nvPr/>
          </p:nvSpPr>
          <p:spPr>
            <a:xfrm>
              <a:off x="7285320" y="227160"/>
              <a:ext cx="1630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LG Electronics, Inc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lnSpc>
                <a:spcPct val="11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"/>
              <a:tabLst>
                <a:tab algn="l" pos="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lnSpc>
                <a:spcPct val="110000"/>
              </a:lnSpc>
              <a:spcBef>
                <a:spcPts val="400"/>
              </a:spcBef>
              <a:buClr>
                <a:srgbClr val="000000"/>
              </a:buClr>
              <a:buFont typeface="Kino MT"/>
              <a:buChar char="—"/>
              <a:tabLst>
                <a:tab algn="l" pos="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lnSpc>
                <a:spcPct val="110000"/>
              </a:lnSpc>
              <a:spcBef>
                <a:spcPts val="400"/>
              </a:spcBef>
              <a:buClr>
                <a:srgbClr val="000000"/>
              </a:buClr>
              <a:buFont typeface="Kino MT"/>
              <a:buChar char="—"/>
              <a:tabLst>
                <a:tab algn="l" pos="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Kino MT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Kino MT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848720" cy="1828800"/>
          </a:xfrm>
          <a:prstGeom prst="rect">
            <a:avLst/>
          </a:prstGeom>
          <a:gradFill rotWithShape="0">
            <a:gsLst>
              <a:gs pos="0">
                <a:srgbClr val="156b13"/>
              </a:gs>
              <a:gs pos="50000">
                <a:srgbClr val="ddebcf"/>
              </a:gs>
              <a:gs pos="100000">
                <a:srgbClr val="156b13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969696"/>
            </a:outerShdw>
          </a:effectLst>
        </p:spPr>
        <p:txBody>
          <a:bodyPr lIns="93600" rIns="93600" tIns="46800" bIns="46800"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TRACE</a:t>
            </a:r>
            <a:r>
              <a:rPr b="1" i="1" lang="en-US" sz="28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1" i="1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80520" y="378000"/>
            <a:ext cx="853452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Trace Command (TL)</a:t>
            </a:r>
            <a:endParaRPr b="1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289548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CALL_MON&gt; TL a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000000"/>
              </a:buClr>
              <a:buFont typeface="Symbol"/>
              <a:buChar char="¨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굴림"/>
              </a:rPr>
              <a:t>Trace All Ports……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7" name=""/>
          <p:cNvSpPr/>
          <p:nvPr/>
        </p:nvSpPr>
        <p:spPr>
          <a:xfrm>
            <a:off x="3276720" y="1295280"/>
            <a:ext cx="571500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CALL_MON&gt;tl 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CALL_MON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CALL_MON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E0a2 &lt;DE-&gt;CA&gt; [0b][12] Off_Hook....... [00/00] 00 00 00 00 00 00 00 00 00 00 3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E0a2 &lt;CA-&gt;DE&gt; [0b][97] Receive Digits. [00/00] ff ff ff ff ff ff ff ff ff ff b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E001 &lt;SW-&gt;SW&gt; [bb][01] Make Switching. [ff/ff]    00a2 &lt;-- 0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E0a2 &lt;CA-&gt;TM&gt; [00][81] Start Tone Lock [00/00] 00 ff ff ff ff ff ff ff ff ff 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E0f6 &lt;AD-&gt;CA&gt; [04][20] ATD Reset ..... [00/00] 01 01 ff ff ff ff ff ff ff ff e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E0a2 &lt;DE-&gt;CA&gt; [0b][14] Start Dial..... [02/00] 00 00 00 00 00 00 00 00 00 00 3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E0a2 &lt;SW-&gt;SW&gt; [bb][00] Cut Switching.. [02/00]    00a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E0a2 &lt;CA-&gt;TM&gt; [00][82] Stop Tone Lock. [02/00] ff ff ff ff ff ff ff ff ff ff 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E0a2 &lt;CA-&gt;TM&gt; [00][83] Start Dgt Lock. [02/00] 0c 02 58 ff ff ff ff ff ff ff 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E0a2 &lt;CA-&gt;DE&gt; [0b][c0] Clear LCD  .... [02/00] 01 ff ff ff ff ff ff ff ff ff 9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E0a2 &lt;CA-&gt;DE&gt; [0b][d6] Voice Connect.. [02/00] ff ff ff ff ff ff ff ff ff ff 8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E0a2 &lt;DE-&gt;CA&gt; [0b][15] Dialed Digit... [02/00] 02 00 00 00 00 00 00 00 00 00 3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E0a2 &lt;CA-&gt;DE&gt; [0b][bc] 2               [02/00] 32 ff ff ff ff ff ff ff ff ff 6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E0a2 &lt;DE-&gt;CA&gt; [0b][15] Dialed Digit... [02/00] 0a 00 00 00 00 00 00 00 00 00 2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E0a2 &lt;CA-&gt;DE&gt; [0b][bc] 0               [02/00] 30 ff ff ff ff ff ff ff ff ff 6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E0a2 &lt;DE-&gt;CA&gt; [0b][15] Dialed Digit... [02/00] 0a 00 00 00 00 00 00 00 00 00 2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E0a2 &lt;CA-&gt;DE&gt; [0b][bc] 0               [02/00] 30 ff ff ff ff ff ff ff ff ff 6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E0a2 &lt;DE-&gt;CA&gt; [0b][15] Dialed Digit... [02/00] 08 00 00 00 00 00 00 00 00 00 2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E0a2 &lt;CA-&gt;DE&gt; [0b][bc] 8               [02/00] 38 ff ff ff ff ff ff ff ff ff 6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E0a2 &lt;CA-&gt;DE&gt; [0b][98] Stop RCV digit. [02/00] ff ff ff ff ff ff ff ff ff ff b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CALL_MON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CALL_MON&gt;tl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B7386F-770F-4D46-A49E-AB6AA0187C5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520" y="378000"/>
            <a:ext cx="853452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Trace Command (TL)</a:t>
            </a:r>
            <a:endParaRPr b="1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"/>
          <p:cNvSpPr/>
          <p:nvPr/>
        </p:nvSpPr>
        <p:spPr>
          <a:xfrm>
            <a:off x="3733920" y="1295280"/>
            <a:ext cx="571500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CALL_MON&gt;tl a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CALL_MON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E0a2 &lt;DE-&gt;CA&gt; [0b][12] Off_Hook....... [00/00] 00 00 00 00 00 00 00 00 00 00 3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E0a2 &lt;CA-&gt;DE&gt; [0b][97] Receive Digits. [00/00] ff ff ff ff ff ff ff ff ff ff b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E0a2 &lt;CA-&gt;TM&gt; [00][81] Start Tone Lock [00/00] 00 ff ff ff ff ff ff ff ff ff 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E0a2 &lt;DE-&gt;CA&gt; [0b][14] Start Dial..... [02/00] 00 00 00 00 00 00 00 00 00 00 3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E0a2 &lt;SW-&gt;SW&gt; [bb][00] Cut Switching.. [02/00]    00a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E0a2 &lt;CA-&gt;TM&gt; [00][82] Stop Tone Lock. [02/00] ff ff ff ff ff ff ff ff ff ff 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E0a2 &lt;CA-&gt;TM&gt; [00][83] Start Dgt Lock. [02/00] 0c 02 58 ff ff ff ff ff ff ff 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E0a2 &lt;CA-&gt;DE&gt; [0b][c0] Clear LCD  .... [02/00] 01 ff ff ff ff ff ff ff ff ff 9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E0a2 &lt;CA-&gt;DE&gt; [0b][d6] Voice Connect.. [02/00] ff ff ff ff ff ff ff ff ff ff 8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E0a2 &lt;DE-&gt;CA&gt; [0b][15] Dialed Digit... [02/00] 02 00 00 00 00 00 00 00 00 00 3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E0a2 &lt;CA-&gt;DE&gt; [0b][bc] 2               [02/00] 32 ff ff ff ff ff ff ff ff ff 6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E0a2 &lt;DE-&gt;CA&gt; [0b][15] Dialed Digit... [02/00] 0a 00 00 00 00 00 00 00 00 00 2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E0a2 &lt;CA-&gt;DE&gt; [0b][bc] 0               [02/00] 30 ff ff ff ff ff ff ff ff ff 6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E0a2 &lt;DE-&gt;CA&gt; [0b][15] Dialed Digit... [02/00] 0a 00 00 00 00 00 00 00 00 00 2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E0a2 &lt;CA-&gt;DE&gt; [0b][bc] 0               [02/00] 30 ff ff ff ff ff ff ff ff ff 6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E0a2 &lt;DE-&gt;CA&gt; [0b][15] Dialed Digit... [02/00] 08 00 00 00 00 00 00 00 00 00 2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E0a2 &lt;CA-&gt;DE&gt; [0b][bc] 8               [02/00] 38 ff ff ff ff ff ff ff ff ff 6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E0a2 &lt;CA-&gt;DE&gt; [0b][98] Stop RCV digit. [02/00] ff ff ff ff ff ff ff ff ff ff b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E0a2 &lt;CA-&gt;TM&gt; [00][84] Stop Dgt Lock.. [02/00] ff ff ff ff ff ff ff ff ff ff 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E0a2 &lt;CA-&gt;TM&gt; [00][81] Start Tone Lock [02/00] 09 ff ff ff ff ff ff ff ff ff 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E0a2 &lt;CA-&gt;DE&gt; [0b][b4] Call To........ [05/00] 00 20 08 ff ff ff ff ff ff ff 7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E0a2 &lt;CA-&gt;TM&gt; [00][90] TONLock TimeOut [05/00] 09 09 7c 01 45 b8 84 01 45 a0 9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CALL_MON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CALL_MON&gt;t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34290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CALL_MON&gt; TL port#(s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000000"/>
              </a:buClr>
              <a:buFont typeface="Symbol"/>
              <a:buChar char="¨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굴림"/>
              </a:rPr>
              <a:t>Trace Ports……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Line ID/Port No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361" name=""/>
          <p:cNvGraphicFramePr/>
          <p:nvPr/>
        </p:nvGraphicFramePr>
        <p:xfrm>
          <a:off x="152280" y="2438280"/>
          <a:ext cx="3353040" cy="392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2438280"/>
                    <a:ext cx="3353040" cy="392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7891EA-383A-4BAD-9CF7-EAECF83EDB5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80520" y="378000"/>
            <a:ext cx="853452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Trace Command (DV)</a:t>
            </a:r>
            <a:endParaRPr b="1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"/>
          <p:cNvSpPr/>
          <p:nvPr/>
        </p:nvSpPr>
        <p:spPr>
          <a:xfrm>
            <a:off x="3276720" y="1295280"/>
            <a:ext cx="571500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CALL_MON&gt;dv 0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CALL_MON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E0a2 &lt;DE-&gt;CA&gt; [0b][3c] Ring Down Key.. [00/00] 00 00 00 00 00 00 00 00 00 00 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E0a2 &lt;CA-&gt;DE&gt; [0b][9f] ACD TERM Contrl [00/00] 0d 0a ff ff ff ff ff ff ff ff 9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E0a2 &lt;DE-&gt;CA&gt; [0b][3c] Ring Down Key.. [00/00] 00 00 00 00 00 00 00 00 00 00 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E0a2 &lt;CA-&gt;DE&gt; [0b][9f] ACD TERM Contrl [00/00] 0d 09 ff ff ff ff ff ff ff ff 9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E0a2 &lt;DE-&gt;CA&gt; [0b][3c] Ring Down Key.. [00/00] 00 00 00 00 00 00 00 00 00 00 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E0a2 &lt;CA-&gt;DE&gt; [0b][9f] ACD TERM Contrl [00/00] 0d 08 ff ff ff ff ff ff ff ff a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E0a2 &lt;DE-&gt;CA&gt; [0b][3c] Ring Down Key.. [00/00] 00 00 00 00 00 00 00 00 00 00 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E0a2 &lt;CA-&gt;DE&gt; [0b][9f] ACD TERM Contrl [00/00] 0d 07 ff ff ff ff ff ff ff ff a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E0a2 &lt;DE-&gt;CA&gt; [0b][3c] Ring Down Key.. [00/00] 00 00 00 00 00 00 00 00 00 00 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E0a2 &lt;CA-&gt;DE&gt; [0b][9f] ACD TERM Contrl [00/00] 0d 06 ff ff ff ff ff ff ff ff a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E0a2 &lt;DE-&gt;CA&gt; [0b][3c] Ring Down Key.. [00/00] 00 00 00 00 00 00 00 00 00 00 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E0a2 &lt;CA-&gt;DE&gt; [0b][9f] ACD TERM Contrl [00/00] 0d 05 ff ff ff ff ff ff ff ff a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E0a2 &lt;DE-&gt;CA&gt; [0b][3c] Ring Down Key.. [00/00] 00 00 00 00 00 00 00 00 00 00 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E0a2 &lt;CA-&gt;DE&gt; [0b][9f] ACD TERM Contrl [00/00] 0d 04 ff ff ff ff ff ff ff ff a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E0a2 &lt;DE-&gt;CA&gt; [0b][12] Off_Hook....... [00/00] 00 00 00 00 00 00 00 00 00 00 3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E0a2 &lt;CA-&gt;DE&gt; [0b][97] Receive Digits. [00/00] ff ff ff ff ff ff ff ff ff ff b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E0a2 &lt;DE-&gt;CA&gt; [0b][14] Start Dial..... [02/00] 00 00 00 00 00 00 00 00 00 00 3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E0a2 &lt;CA-&gt;DE&gt; [0b][c0] Clear LCD  .... [02/00] 01 ff ff ff ff ff ff ff ff ff 9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E0a2 &lt;CA-&gt;DE&gt; [0b][d6] Voice Connect.. [02/00] ff ff ff ff ff ff ff ff ff ff 8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E0a2 &lt;DE-&gt;CA&gt; [0b][15] Dialed Digit... [02/00] 02 00 00 00 00 00 00 00 00 00 3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E0a2 &lt;CA-&gt;DE&gt; [0b][bc] 2               [02/00] 32 ff ff ff ff ff ff ff ff ff 6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CALL_MON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CALL_MON&gt;d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289548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CALL_MON&gt; DV no1….no8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000000"/>
              </a:buClr>
              <a:buFont typeface="Symbol"/>
              <a:buChar char="¨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굴림"/>
              </a:rPr>
              <a:t>Trace Devic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"/>
          <p:cNvSpPr/>
          <p:nvPr/>
        </p:nvSpPr>
        <p:spPr>
          <a:xfrm>
            <a:off x="2571840" y="1467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-45360" bIns="-4536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9D4D5D-D5DF-408B-B6D9-9F7A7FC016D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80520" y="378000"/>
            <a:ext cx="853452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Trace Command (ITL/QTL)</a:t>
            </a:r>
            <a:endParaRPr b="1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"/>
          <p:cNvSpPr/>
          <p:nvPr/>
        </p:nvSpPr>
        <p:spPr>
          <a:xfrm>
            <a:off x="3276720" y="1295280"/>
            <a:ext cx="571500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CALL_MON&gt;itl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CALL_MON&gt;                  PBX                               NODE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       </a:t>
            </a: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|                                  |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       </a:t>
            </a: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|      I_SETUP       (PT:0063 S:00)|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       </a:t>
            </a: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|---------------------------------&gt;| 00010708 0201af05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       </a:t>
            </a: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|  SAPI=00 TEI=01 CRL=02 CR=01af   | 04038090 a31803a1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       </a:t>
            </a: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|                                  | 83836c06 01813230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       </a:t>
            </a: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|                                  | 3038 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       </a:t>
            </a: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|                                  |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       </a:t>
            </a: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|      I_SETUP       (PT:0043 S:00)|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00000808 0201af05 |&lt;---------------------------------|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04038090 a31803a1 |  SAPI=00 TEI=00 CRL=02 CR=01af   |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83836c06 01813230 |                                  |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3038              |                                  |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       </a:t>
            </a: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|                                  |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       </a:t>
            </a: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|    I_SETUP ACK     (PT:0043 S:06)|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       </a:t>
            </a: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|---------------------------------&gt;| 00000708 0281af0d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       </a:t>
            </a: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|  SAPI=00 TEI=00 CRL=02 CR=81af   | 1803a983 831e0281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       </a:t>
            </a: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|                                  | 8a   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       </a:t>
            </a: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|                                  |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       </a:t>
            </a: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|    I_SETUP ACK     (PT:0063 S:01)|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00000808 0281af0d |&lt;---------------------------------|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1803a983 831e0281 |  SAPI=00 TEI=00 CRL=02 CR=81af   |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8a                |                                  |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CALL_MON&gt;it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289548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CALL_MON&gt; ITL c (port#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000000"/>
              </a:buClr>
              <a:buFont typeface="Symbol"/>
              <a:buChar char="¨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굴림"/>
              </a:rPr>
              <a:t>Trace ISDN(QSIG) Message All Port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000000"/>
              </a:buClr>
              <a:buFont typeface="Symbol"/>
              <a:buChar char="¨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굴림"/>
              </a:rPr>
              <a:t>Port#1…Port#7 with the Complete mo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797F27-18C9-4911-A1B9-6433872C1DE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723960" y="533520"/>
            <a:ext cx="7174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LC/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483000" y="533520"/>
            <a:ext cx="6858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C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4359240" y="533520"/>
            <a:ext cx="6285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w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7796160" y="533520"/>
            <a:ext cx="7239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LC/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159520" y="533520"/>
            <a:ext cx="5839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C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1644480" y="533520"/>
            <a:ext cx="83844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DTM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Rece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682720" y="533520"/>
            <a:ext cx="6159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Tim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721560" y="533520"/>
            <a:ext cx="8380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DTM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Rece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913360" y="533520"/>
            <a:ext cx="6159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Tim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730080" y="228600"/>
            <a:ext cx="77724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Extension (SLT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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LT) Call Trace 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727200" y="6172200"/>
            <a:ext cx="7174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LC/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486240" y="6172200"/>
            <a:ext cx="6858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C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362480" y="6172200"/>
            <a:ext cx="6285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w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7799400" y="6172200"/>
            <a:ext cx="7239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LC/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5162400" y="6172200"/>
            <a:ext cx="5842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C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647720" y="6172200"/>
            <a:ext cx="83844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DTM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Rece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685960" y="6172200"/>
            <a:ext cx="6159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Tim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6724800" y="6172200"/>
            <a:ext cx="8380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DTM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Rece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916600" y="6172200"/>
            <a:ext cx="6159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Tim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082520" y="914400"/>
            <a:ext cx="0" cy="5257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057400" y="914400"/>
            <a:ext cx="0" cy="5257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2987640" y="914400"/>
            <a:ext cx="0" cy="5257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3825720" y="914400"/>
            <a:ext cx="0" cy="5257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4676760" y="914400"/>
            <a:ext cx="0" cy="5257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462640" y="914400"/>
            <a:ext cx="0" cy="5257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6232680" y="914400"/>
            <a:ext cx="0" cy="5257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7147080" y="914400"/>
            <a:ext cx="0" cy="5257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161200" y="914400"/>
            <a:ext cx="0" cy="5257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8" name=""/>
          <p:cNvGrpSpPr/>
          <p:nvPr/>
        </p:nvGrpSpPr>
        <p:grpSpPr>
          <a:xfrm>
            <a:off x="1109520" y="1066680"/>
            <a:ext cx="2700360" cy="304920"/>
            <a:chOff x="1109520" y="1066680"/>
            <a:chExt cx="2700360" cy="304920"/>
          </a:xfrm>
        </p:grpSpPr>
        <p:sp>
          <p:nvSpPr>
            <p:cNvPr id="399" name=""/>
            <p:cNvSpPr/>
            <p:nvPr/>
          </p:nvSpPr>
          <p:spPr>
            <a:xfrm>
              <a:off x="1109520" y="1371600"/>
              <a:ext cx="270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2109960" y="1066680"/>
              <a:ext cx="83808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Off Hoo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1" name=""/>
          <p:cNvGrpSpPr/>
          <p:nvPr/>
        </p:nvGrpSpPr>
        <p:grpSpPr>
          <a:xfrm>
            <a:off x="4138560" y="1428840"/>
            <a:ext cx="1066680" cy="471240"/>
            <a:chOff x="4138560" y="1428840"/>
            <a:chExt cx="1066680" cy="471240"/>
          </a:xfrm>
        </p:grpSpPr>
        <p:sp>
          <p:nvSpPr>
            <p:cNvPr id="402" name=""/>
            <p:cNvSpPr/>
            <p:nvPr/>
          </p:nvSpPr>
          <p:spPr>
            <a:xfrm>
              <a:off x="4600440" y="1747800"/>
              <a:ext cx="152640" cy="152280"/>
            </a:xfrm>
            <a:custGeom>
              <a:avLst/>
              <a:gdLst>
                <a:gd name="textAreaLeft" fmla="*/ 0 w 152640"/>
                <a:gd name="textAreaRight" fmla="*/ 153000 w 15264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300" y="6500"/>
                  </a:lnTo>
                  <a:lnTo>
                    <a:pt x="4300" y="8600"/>
                  </a:lnTo>
                  <a:lnTo>
                    <a:pt x="8600" y="8600"/>
                  </a:lnTo>
                  <a:lnTo>
                    <a:pt x="8600" y="4300"/>
                  </a:lnTo>
                  <a:lnTo>
                    <a:pt x="6500" y="4300"/>
                  </a:lnTo>
                  <a:lnTo>
                    <a:pt x="10800" y="0"/>
                  </a:lnTo>
                  <a:lnTo>
                    <a:pt x="15100" y="4300"/>
                  </a:lnTo>
                  <a:lnTo>
                    <a:pt x="13000" y="4300"/>
                  </a:lnTo>
                  <a:lnTo>
                    <a:pt x="13000" y="8600"/>
                  </a:lnTo>
                  <a:lnTo>
                    <a:pt x="17300" y="8600"/>
                  </a:lnTo>
                  <a:lnTo>
                    <a:pt x="17300" y="6500"/>
                  </a:lnTo>
                  <a:lnTo>
                    <a:pt x="21600" y="10800"/>
                  </a:lnTo>
                  <a:lnTo>
                    <a:pt x="17300" y="15100"/>
                  </a:lnTo>
                  <a:lnTo>
                    <a:pt x="17300" y="13000"/>
                  </a:lnTo>
                  <a:lnTo>
                    <a:pt x="13000" y="13000"/>
                  </a:lnTo>
                  <a:lnTo>
                    <a:pt x="13000" y="17300"/>
                  </a:lnTo>
                  <a:lnTo>
                    <a:pt x="15100" y="17300"/>
                  </a:lnTo>
                  <a:lnTo>
                    <a:pt x="10800" y="21600"/>
                  </a:lnTo>
                  <a:lnTo>
                    <a:pt x="6500" y="17300"/>
                  </a:lnTo>
                  <a:lnTo>
                    <a:pt x="8600" y="17300"/>
                  </a:lnTo>
                  <a:lnTo>
                    <a:pt x="8600" y="13000"/>
                  </a:lnTo>
                  <a:lnTo>
                    <a:pt x="4300" y="13000"/>
                  </a:lnTo>
                  <a:lnTo>
                    <a:pt x="4300" y="151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4138560" y="1428840"/>
              <a:ext cx="1066680" cy="304560"/>
            </a:xfrm>
            <a:prstGeom prst="rect">
              <a:avLst/>
            </a:prstGeom>
            <a:solidFill>
              <a:srgbClr val="ffffff"/>
            </a:solidFill>
            <a:ln cap="rnd" w="936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Make Switchin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00c0</a:t>
              </a:r>
              <a:r>
                <a:rPr b="0" lang="en-US" sz="10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</a:t>
              </a: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000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4" name=""/>
          <p:cNvGrpSpPr/>
          <p:nvPr/>
        </p:nvGrpSpPr>
        <p:grpSpPr>
          <a:xfrm>
            <a:off x="2766960" y="1981080"/>
            <a:ext cx="1219320" cy="304920"/>
            <a:chOff x="2766960" y="1981080"/>
            <a:chExt cx="1219320" cy="304920"/>
          </a:xfrm>
        </p:grpSpPr>
        <p:sp>
          <p:nvSpPr>
            <p:cNvPr id="405" name=""/>
            <p:cNvSpPr/>
            <p:nvPr/>
          </p:nvSpPr>
          <p:spPr>
            <a:xfrm flipH="1">
              <a:off x="2986200" y="2286000"/>
              <a:ext cx="823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766960" y="1981080"/>
              <a:ext cx="12193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Start Tone Loc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7" name=""/>
          <p:cNvGrpSpPr/>
          <p:nvPr/>
        </p:nvGrpSpPr>
        <p:grpSpPr>
          <a:xfrm>
            <a:off x="4138560" y="3260880"/>
            <a:ext cx="1066680" cy="471240"/>
            <a:chOff x="4138560" y="3260880"/>
            <a:chExt cx="1066680" cy="471240"/>
          </a:xfrm>
        </p:grpSpPr>
        <p:sp>
          <p:nvSpPr>
            <p:cNvPr id="408" name=""/>
            <p:cNvSpPr/>
            <p:nvPr/>
          </p:nvSpPr>
          <p:spPr>
            <a:xfrm>
              <a:off x="4600440" y="3579840"/>
              <a:ext cx="152640" cy="152280"/>
            </a:xfrm>
            <a:custGeom>
              <a:avLst/>
              <a:gdLst>
                <a:gd name="textAreaLeft" fmla="*/ 0 w 152640"/>
                <a:gd name="textAreaRight" fmla="*/ 153000 w 15264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300" y="6500"/>
                  </a:lnTo>
                  <a:lnTo>
                    <a:pt x="4300" y="8600"/>
                  </a:lnTo>
                  <a:lnTo>
                    <a:pt x="8600" y="8600"/>
                  </a:lnTo>
                  <a:lnTo>
                    <a:pt x="8600" y="4300"/>
                  </a:lnTo>
                  <a:lnTo>
                    <a:pt x="6500" y="4300"/>
                  </a:lnTo>
                  <a:lnTo>
                    <a:pt x="10800" y="0"/>
                  </a:lnTo>
                  <a:lnTo>
                    <a:pt x="15100" y="4300"/>
                  </a:lnTo>
                  <a:lnTo>
                    <a:pt x="13000" y="4300"/>
                  </a:lnTo>
                  <a:lnTo>
                    <a:pt x="13000" y="8600"/>
                  </a:lnTo>
                  <a:lnTo>
                    <a:pt x="17300" y="8600"/>
                  </a:lnTo>
                  <a:lnTo>
                    <a:pt x="17300" y="6500"/>
                  </a:lnTo>
                  <a:lnTo>
                    <a:pt x="21600" y="10800"/>
                  </a:lnTo>
                  <a:lnTo>
                    <a:pt x="17300" y="15100"/>
                  </a:lnTo>
                  <a:lnTo>
                    <a:pt x="17300" y="13000"/>
                  </a:lnTo>
                  <a:lnTo>
                    <a:pt x="13000" y="13000"/>
                  </a:lnTo>
                  <a:lnTo>
                    <a:pt x="13000" y="17300"/>
                  </a:lnTo>
                  <a:lnTo>
                    <a:pt x="15100" y="17300"/>
                  </a:lnTo>
                  <a:lnTo>
                    <a:pt x="10800" y="21600"/>
                  </a:lnTo>
                  <a:lnTo>
                    <a:pt x="6500" y="17300"/>
                  </a:lnTo>
                  <a:lnTo>
                    <a:pt x="8600" y="17300"/>
                  </a:lnTo>
                  <a:lnTo>
                    <a:pt x="8600" y="13000"/>
                  </a:lnTo>
                  <a:lnTo>
                    <a:pt x="4300" y="13000"/>
                  </a:lnTo>
                  <a:lnTo>
                    <a:pt x="4300" y="151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4138560" y="3260880"/>
              <a:ext cx="1066680" cy="304560"/>
            </a:xfrm>
            <a:prstGeom prst="rect">
              <a:avLst/>
            </a:prstGeom>
            <a:solidFill>
              <a:srgbClr val="ffffff"/>
            </a:solidFill>
            <a:ln cap="rnd" w="936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Make Switchin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00c0</a:t>
              </a:r>
              <a:r>
                <a:rPr b="0" lang="en-US" sz="10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000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2066760" y="3813120"/>
            <a:ext cx="1752840" cy="300240"/>
            <a:chOff x="2066760" y="3813120"/>
            <a:chExt cx="1752840" cy="300240"/>
          </a:xfrm>
        </p:grpSpPr>
        <p:sp>
          <p:nvSpPr>
            <p:cNvPr id="411" name=""/>
            <p:cNvSpPr/>
            <p:nvPr/>
          </p:nvSpPr>
          <p:spPr>
            <a:xfrm>
              <a:off x="2066760" y="4113360"/>
              <a:ext cx="175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2386080" y="3813120"/>
              <a:ext cx="121896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Start Dial.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3" name=""/>
          <p:cNvGrpSpPr/>
          <p:nvPr/>
        </p:nvGrpSpPr>
        <p:grpSpPr>
          <a:xfrm>
            <a:off x="4143240" y="4632480"/>
            <a:ext cx="1067040" cy="471240"/>
            <a:chOff x="4143240" y="4632480"/>
            <a:chExt cx="1067040" cy="471240"/>
          </a:xfrm>
        </p:grpSpPr>
        <p:sp>
          <p:nvSpPr>
            <p:cNvPr id="414" name=""/>
            <p:cNvSpPr/>
            <p:nvPr/>
          </p:nvSpPr>
          <p:spPr>
            <a:xfrm>
              <a:off x="4605480" y="4951440"/>
              <a:ext cx="152280" cy="15228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300" y="6500"/>
                  </a:lnTo>
                  <a:lnTo>
                    <a:pt x="4300" y="8600"/>
                  </a:lnTo>
                  <a:lnTo>
                    <a:pt x="8600" y="8600"/>
                  </a:lnTo>
                  <a:lnTo>
                    <a:pt x="8600" y="4300"/>
                  </a:lnTo>
                  <a:lnTo>
                    <a:pt x="6500" y="4300"/>
                  </a:lnTo>
                  <a:lnTo>
                    <a:pt x="10800" y="0"/>
                  </a:lnTo>
                  <a:lnTo>
                    <a:pt x="15100" y="4300"/>
                  </a:lnTo>
                  <a:lnTo>
                    <a:pt x="13000" y="4300"/>
                  </a:lnTo>
                  <a:lnTo>
                    <a:pt x="13000" y="8600"/>
                  </a:lnTo>
                  <a:lnTo>
                    <a:pt x="17300" y="8600"/>
                  </a:lnTo>
                  <a:lnTo>
                    <a:pt x="17300" y="6500"/>
                  </a:lnTo>
                  <a:lnTo>
                    <a:pt x="21600" y="10800"/>
                  </a:lnTo>
                  <a:lnTo>
                    <a:pt x="17300" y="15100"/>
                  </a:lnTo>
                  <a:lnTo>
                    <a:pt x="17300" y="13000"/>
                  </a:lnTo>
                  <a:lnTo>
                    <a:pt x="13000" y="13000"/>
                  </a:lnTo>
                  <a:lnTo>
                    <a:pt x="13000" y="17300"/>
                  </a:lnTo>
                  <a:lnTo>
                    <a:pt x="15100" y="17300"/>
                  </a:lnTo>
                  <a:lnTo>
                    <a:pt x="10800" y="21600"/>
                  </a:lnTo>
                  <a:lnTo>
                    <a:pt x="6500" y="17300"/>
                  </a:lnTo>
                  <a:lnTo>
                    <a:pt x="8600" y="17300"/>
                  </a:lnTo>
                  <a:lnTo>
                    <a:pt x="8600" y="13000"/>
                  </a:lnTo>
                  <a:lnTo>
                    <a:pt x="4300" y="13000"/>
                  </a:lnTo>
                  <a:lnTo>
                    <a:pt x="4300" y="151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4143240" y="4632480"/>
              <a:ext cx="1067040" cy="304560"/>
            </a:xfrm>
            <a:prstGeom prst="rect">
              <a:avLst/>
            </a:prstGeom>
            <a:solidFill>
              <a:srgbClr val="ffffff"/>
            </a:solidFill>
            <a:ln cap="rnd" w="936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Cut Switchin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00c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6" name=""/>
          <p:cNvGrpSpPr/>
          <p:nvPr/>
        </p:nvGrpSpPr>
        <p:grpSpPr>
          <a:xfrm>
            <a:off x="2971800" y="5184720"/>
            <a:ext cx="866880" cy="304920"/>
            <a:chOff x="2971800" y="5184720"/>
            <a:chExt cx="866880" cy="304920"/>
          </a:xfrm>
        </p:grpSpPr>
        <p:sp>
          <p:nvSpPr>
            <p:cNvPr id="417" name=""/>
            <p:cNvSpPr/>
            <p:nvPr/>
          </p:nvSpPr>
          <p:spPr>
            <a:xfrm flipH="1">
              <a:off x="2986200" y="548964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971800" y="5184720"/>
              <a:ext cx="86688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Stop Tone Loc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9" name=""/>
          <p:cNvGrpSpPr/>
          <p:nvPr/>
        </p:nvGrpSpPr>
        <p:grpSpPr>
          <a:xfrm>
            <a:off x="2971800" y="5634000"/>
            <a:ext cx="866880" cy="309600"/>
            <a:chOff x="2971800" y="5634000"/>
            <a:chExt cx="866880" cy="309600"/>
          </a:xfrm>
        </p:grpSpPr>
        <p:sp>
          <p:nvSpPr>
            <p:cNvPr id="420" name=""/>
            <p:cNvSpPr/>
            <p:nvPr/>
          </p:nvSpPr>
          <p:spPr>
            <a:xfrm flipH="1">
              <a:off x="2986200" y="594360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2971800" y="5634000"/>
              <a:ext cx="86688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Start Dgt Loc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2" name=""/>
          <p:cNvGrpSpPr/>
          <p:nvPr/>
        </p:nvGrpSpPr>
        <p:grpSpPr>
          <a:xfrm>
            <a:off x="2057040" y="2903400"/>
            <a:ext cx="1762200" cy="295560"/>
            <a:chOff x="2057040" y="2903400"/>
            <a:chExt cx="1762200" cy="295560"/>
          </a:xfrm>
        </p:grpSpPr>
        <p:sp>
          <p:nvSpPr>
            <p:cNvPr id="423" name=""/>
            <p:cNvSpPr/>
            <p:nvPr/>
          </p:nvSpPr>
          <p:spPr>
            <a:xfrm flipH="1">
              <a:off x="2057040" y="3198960"/>
              <a:ext cx="1762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2371680" y="2903400"/>
              <a:ext cx="12193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DTMF AsnReq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5" name=""/>
          <p:cNvGrpSpPr/>
          <p:nvPr/>
        </p:nvGrpSpPr>
        <p:grpSpPr>
          <a:xfrm>
            <a:off x="1085760" y="4270320"/>
            <a:ext cx="2729160" cy="300240"/>
            <a:chOff x="1085760" y="4270320"/>
            <a:chExt cx="2729160" cy="300240"/>
          </a:xfrm>
        </p:grpSpPr>
        <p:sp>
          <p:nvSpPr>
            <p:cNvPr id="426" name=""/>
            <p:cNvSpPr/>
            <p:nvPr/>
          </p:nvSpPr>
          <p:spPr>
            <a:xfrm>
              <a:off x="1085760" y="4570560"/>
              <a:ext cx="2729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1905120" y="4270320"/>
              <a:ext cx="121896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Stop Rcv Dg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8" name=""/>
          <p:cNvGrpSpPr/>
          <p:nvPr/>
        </p:nvGrpSpPr>
        <p:grpSpPr>
          <a:xfrm>
            <a:off x="1074240" y="2438280"/>
            <a:ext cx="2752920" cy="304920"/>
            <a:chOff x="1074240" y="2438280"/>
            <a:chExt cx="2752920" cy="304920"/>
          </a:xfrm>
        </p:grpSpPr>
        <p:sp>
          <p:nvSpPr>
            <p:cNvPr id="429" name=""/>
            <p:cNvSpPr/>
            <p:nvPr/>
          </p:nvSpPr>
          <p:spPr>
            <a:xfrm flipH="1">
              <a:off x="1074240" y="2743200"/>
              <a:ext cx="2752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1905120" y="2438280"/>
              <a:ext cx="121896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Start Rcv Dg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1" name=""/>
          <p:cNvSpPr/>
          <p:nvPr/>
        </p:nvSpPr>
        <p:spPr>
          <a:xfrm>
            <a:off x="8502480" y="6458040"/>
            <a:ext cx="6098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3572C-03A6-40DE-A186-AF6129B9825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돋움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599515-DAD2-45C8-A26C-2E29EEFA096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/>
          <p:nvPr/>
        </p:nvSpPr>
        <p:spPr>
          <a:xfrm>
            <a:off x="723960" y="533520"/>
            <a:ext cx="7174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LC/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3483000" y="533520"/>
            <a:ext cx="6858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C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4359240" y="533520"/>
            <a:ext cx="6285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w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7796160" y="533520"/>
            <a:ext cx="7239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LC/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159520" y="533520"/>
            <a:ext cx="5839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C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1644480" y="533520"/>
            <a:ext cx="83844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DTM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Rece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82720" y="533520"/>
            <a:ext cx="6159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Tim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6721560" y="533520"/>
            <a:ext cx="8380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DTM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Rece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913360" y="533520"/>
            <a:ext cx="6159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Tim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730080" y="228600"/>
            <a:ext cx="77724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Extension (SLT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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LT) Call Trace 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727200" y="6172200"/>
            <a:ext cx="7174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LC/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486240" y="6172200"/>
            <a:ext cx="6858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C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362480" y="6172200"/>
            <a:ext cx="6285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w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7799400" y="6172200"/>
            <a:ext cx="7239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LC/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162400" y="6172200"/>
            <a:ext cx="5842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C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647720" y="6172200"/>
            <a:ext cx="83844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DTM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Rece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685960" y="6172200"/>
            <a:ext cx="6159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Tim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6724800" y="6172200"/>
            <a:ext cx="8380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DTM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Rece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5916600" y="6172200"/>
            <a:ext cx="6159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Tim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082520" y="914400"/>
            <a:ext cx="0" cy="5257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2057400" y="914400"/>
            <a:ext cx="0" cy="5257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2987640" y="914400"/>
            <a:ext cx="0" cy="5257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3825720" y="914400"/>
            <a:ext cx="0" cy="5257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676760" y="914400"/>
            <a:ext cx="0" cy="5257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5462640" y="914400"/>
            <a:ext cx="0" cy="5257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6232680" y="914400"/>
            <a:ext cx="0" cy="5257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7147080" y="914400"/>
            <a:ext cx="0" cy="5257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8161200" y="914400"/>
            <a:ext cx="0" cy="5257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4138560" y="3719520"/>
            <a:ext cx="1066680" cy="471600"/>
            <a:chOff x="4138560" y="3719520"/>
            <a:chExt cx="1066680" cy="471600"/>
          </a:xfrm>
        </p:grpSpPr>
        <p:sp>
          <p:nvSpPr>
            <p:cNvPr id="461" name=""/>
            <p:cNvSpPr/>
            <p:nvPr/>
          </p:nvSpPr>
          <p:spPr>
            <a:xfrm>
              <a:off x="4600440" y="4038480"/>
              <a:ext cx="152640" cy="152640"/>
            </a:xfrm>
            <a:custGeom>
              <a:avLst/>
              <a:gdLst>
                <a:gd name="textAreaLeft" fmla="*/ 0 w 152640"/>
                <a:gd name="textAreaRight" fmla="*/ 153000 w 15264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300" y="6500"/>
                  </a:lnTo>
                  <a:lnTo>
                    <a:pt x="4300" y="8600"/>
                  </a:lnTo>
                  <a:lnTo>
                    <a:pt x="8600" y="8600"/>
                  </a:lnTo>
                  <a:lnTo>
                    <a:pt x="8600" y="4300"/>
                  </a:lnTo>
                  <a:lnTo>
                    <a:pt x="6500" y="4300"/>
                  </a:lnTo>
                  <a:lnTo>
                    <a:pt x="10800" y="0"/>
                  </a:lnTo>
                  <a:lnTo>
                    <a:pt x="15100" y="4300"/>
                  </a:lnTo>
                  <a:lnTo>
                    <a:pt x="13000" y="4300"/>
                  </a:lnTo>
                  <a:lnTo>
                    <a:pt x="13000" y="8600"/>
                  </a:lnTo>
                  <a:lnTo>
                    <a:pt x="17300" y="8600"/>
                  </a:lnTo>
                  <a:lnTo>
                    <a:pt x="17300" y="6500"/>
                  </a:lnTo>
                  <a:lnTo>
                    <a:pt x="21600" y="10800"/>
                  </a:lnTo>
                  <a:lnTo>
                    <a:pt x="17300" y="15100"/>
                  </a:lnTo>
                  <a:lnTo>
                    <a:pt x="17300" y="13000"/>
                  </a:lnTo>
                  <a:lnTo>
                    <a:pt x="13000" y="13000"/>
                  </a:lnTo>
                  <a:lnTo>
                    <a:pt x="13000" y="17300"/>
                  </a:lnTo>
                  <a:lnTo>
                    <a:pt x="15100" y="17300"/>
                  </a:lnTo>
                  <a:lnTo>
                    <a:pt x="10800" y="21600"/>
                  </a:lnTo>
                  <a:lnTo>
                    <a:pt x="6500" y="17300"/>
                  </a:lnTo>
                  <a:lnTo>
                    <a:pt x="8600" y="17300"/>
                  </a:lnTo>
                  <a:lnTo>
                    <a:pt x="8600" y="13000"/>
                  </a:lnTo>
                  <a:lnTo>
                    <a:pt x="4300" y="13000"/>
                  </a:lnTo>
                  <a:lnTo>
                    <a:pt x="4300" y="151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4138560" y="3719520"/>
              <a:ext cx="1066680" cy="304920"/>
            </a:xfrm>
            <a:prstGeom prst="rect">
              <a:avLst/>
            </a:prstGeom>
            <a:solidFill>
              <a:srgbClr val="ffffff"/>
            </a:solidFill>
            <a:ln cap="rnd" w="936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Cut Switchin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000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3" name=""/>
          <p:cNvGrpSpPr/>
          <p:nvPr/>
        </p:nvGrpSpPr>
        <p:grpSpPr>
          <a:xfrm>
            <a:off x="1081080" y="2895480"/>
            <a:ext cx="2728800" cy="304920"/>
            <a:chOff x="1081080" y="2895480"/>
            <a:chExt cx="2728800" cy="304920"/>
          </a:xfrm>
        </p:grpSpPr>
        <p:sp>
          <p:nvSpPr>
            <p:cNvPr id="464" name=""/>
            <p:cNvSpPr/>
            <p:nvPr/>
          </p:nvSpPr>
          <p:spPr>
            <a:xfrm>
              <a:off x="1081080" y="3200400"/>
              <a:ext cx="2728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2090880" y="2895480"/>
              <a:ext cx="83808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Stop Rcv Dg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6" name=""/>
          <p:cNvGrpSpPr/>
          <p:nvPr/>
        </p:nvGrpSpPr>
        <p:grpSpPr>
          <a:xfrm>
            <a:off x="4138560" y="4633920"/>
            <a:ext cx="1066680" cy="471600"/>
            <a:chOff x="4138560" y="4633920"/>
            <a:chExt cx="1066680" cy="471600"/>
          </a:xfrm>
        </p:grpSpPr>
        <p:sp>
          <p:nvSpPr>
            <p:cNvPr id="467" name=""/>
            <p:cNvSpPr/>
            <p:nvPr/>
          </p:nvSpPr>
          <p:spPr>
            <a:xfrm>
              <a:off x="4600440" y="4952880"/>
              <a:ext cx="152640" cy="152640"/>
            </a:xfrm>
            <a:custGeom>
              <a:avLst/>
              <a:gdLst>
                <a:gd name="textAreaLeft" fmla="*/ 0 w 152640"/>
                <a:gd name="textAreaRight" fmla="*/ 153000 w 15264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300" y="6500"/>
                  </a:lnTo>
                  <a:lnTo>
                    <a:pt x="4300" y="8600"/>
                  </a:lnTo>
                  <a:lnTo>
                    <a:pt x="8600" y="8600"/>
                  </a:lnTo>
                  <a:lnTo>
                    <a:pt x="8600" y="4300"/>
                  </a:lnTo>
                  <a:lnTo>
                    <a:pt x="6500" y="4300"/>
                  </a:lnTo>
                  <a:lnTo>
                    <a:pt x="10800" y="0"/>
                  </a:lnTo>
                  <a:lnTo>
                    <a:pt x="15100" y="4300"/>
                  </a:lnTo>
                  <a:lnTo>
                    <a:pt x="13000" y="4300"/>
                  </a:lnTo>
                  <a:lnTo>
                    <a:pt x="13000" y="8600"/>
                  </a:lnTo>
                  <a:lnTo>
                    <a:pt x="17300" y="8600"/>
                  </a:lnTo>
                  <a:lnTo>
                    <a:pt x="17300" y="6500"/>
                  </a:lnTo>
                  <a:lnTo>
                    <a:pt x="21600" y="10800"/>
                  </a:lnTo>
                  <a:lnTo>
                    <a:pt x="17300" y="15100"/>
                  </a:lnTo>
                  <a:lnTo>
                    <a:pt x="17300" y="13000"/>
                  </a:lnTo>
                  <a:lnTo>
                    <a:pt x="13000" y="13000"/>
                  </a:lnTo>
                  <a:lnTo>
                    <a:pt x="13000" y="17300"/>
                  </a:lnTo>
                  <a:lnTo>
                    <a:pt x="15100" y="17300"/>
                  </a:lnTo>
                  <a:lnTo>
                    <a:pt x="10800" y="21600"/>
                  </a:lnTo>
                  <a:lnTo>
                    <a:pt x="6500" y="17300"/>
                  </a:lnTo>
                  <a:lnTo>
                    <a:pt x="8600" y="17300"/>
                  </a:lnTo>
                  <a:lnTo>
                    <a:pt x="8600" y="13000"/>
                  </a:lnTo>
                  <a:lnTo>
                    <a:pt x="4300" y="13000"/>
                  </a:lnTo>
                  <a:lnTo>
                    <a:pt x="4300" y="151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4138560" y="4633920"/>
              <a:ext cx="1066680" cy="304920"/>
            </a:xfrm>
            <a:prstGeom prst="rect">
              <a:avLst/>
            </a:prstGeom>
            <a:solidFill>
              <a:srgbClr val="ffffff"/>
            </a:solidFill>
            <a:ln cap="rnd" w="936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Make Switchin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00c0</a:t>
              </a:r>
              <a:r>
                <a:rPr b="0" lang="en-US" sz="10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</a:t>
              </a: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000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9" name=""/>
          <p:cNvGrpSpPr/>
          <p:nvPr/>
        </p:nvGrpSpPr>
        <p:grpSpPr>
          <a:xfrm>
            <a:off x="2924280" y="4267080"/>
            <a:ext cx="961920" cy="304920"/>
            <a:chOff x="2924280" y="4267080"/>
            <a:chExt cx="961920" cy="304920"/>
          </a:xfrm>
        </p:grpSpPr>
        <p:sp>
          <p:nvSpPr>
            <p:cNvPr id="470" name=""/>
            <p:cNvSpPr/>
            <p:nvPr/>
          </p:nvSpPr>
          <p:spPr>
            <a:xfrm>
              <a:off x="2986200" y="457200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2924280" y="4267080"/>
              <a:ext cx="9619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Stop Dgt Loc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2" name=""/>
          <p:cNvGrpSpPr/>
          <p:nvPr/>
        </p:nvGrpSpPr>
        <p:grpSpPr>
          <a:xfrm>
            <a:off x="2971800" y="5181480"/>
            <a:ext cx="866880" cy="304920"/>
            <a:chOff x="2971800" y="5181480"/>
            <a:chExt cx="866880" cy="304920"/>
          </a:xfrm>
        </p:grpSpPr>
        <p:sp>
          <p:nvSpPr>
            <p:cNvPr id="473" name=""/>
            <p:cNvSpPr/>
            <p:nvPr/>
          </p:nvSpPr>
          <p:spPr>
            <a:xfrm flipH="1">
              <a:off x="2986200" y="548640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2971800" y="5181480"/>
              <a:ext cx="86688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Start Tone Loc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"/>
          <p:cNvGrpSpPr/>
          <p:nvPr/>
        </p:nvGrpSpPr>
        <p:grpSpPr>
          <a:xfrm>
            <a:off x="3847680" y="5638680"/>
            <a:ext cx="1585800" cy="304920"/>
            <a:chOff x="3847680" y="5638680"/>
            <a:chExt cx="1585800" cy="304920"/>
          </a:xfrm>
        </p:grpSpPr>
        <p:sp>
          <p:nvSpPr>
            <p:cNvPr id="476" name=""/>
            <p:cNvSpPr/>
            <p:nvPr/>
          </p:nvSpPr>
          <p:spPr>
            <a:xfrm flipH="1">
              <a:off x="3847680" y="5943600"/>
              <a:ext cx="15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4238640" y="5638680"/>
              <a:ext cx="86688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Give Ring..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8" name=""/>
          <p:cNvGrpSpPr/>
          <p:nvPr/>
        </p:nvGrpSpPr>
        <p:grpSpPr>
          <a:xfrm>
            <a:off x="2062080" y="1523880"/>
            <a:ext cx="1752840" cy="304920"/>
            <a:chOff x="2062080" y="1523880"/>
            <a:chExt cx="1752840" cy="304920"/>
          </a:xfrm>
        </p:grpSpPr>
        <p:sp>
          <p:nvSpPr>
            <p:cNvPr id="479" name=""/>
            <p:cNvSpPr/>
            <p:nvPr/>
          </p:nvSpPr>
          <p:spPr>
            <a:xfrm>
              <a:off x="2062080" y="1828800"/>
              <a:ext cx="175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2381400" y="1523880"/>
              <a:ext cx="121896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Rcv Digi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1" name=""/>
          <p:cNvGrpSpPr/>
          <p:nvPr/>
        </p:nvGrpSpPr>
        <p:grpSpPr>
          <a:xfrm>
            <a:off x="2062080" y="1066680"/>
            <a:ext cx="1752840" cy="304920"/>
            <a:chOff x="2062080" y="1066680"/>
            <a:chExt cx="1752840" cy="304920"/>
          </a:xfrm>
        </p:grpSpPr>
        <p:sp>
          <p:nvSpPr>
            <p:cNvPr id="482" name=""/>
            <p:cNvSpPr/>
            <p:nvPr/>
          </p:nvSpPr>
          <p:spPr>
            <a:xfrm>
              <a:off x="2381400" y="1066680"/>
              <a:ext cx="121896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Rcv Digi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2062080" y="1371600"/>
              <a:ext cx="175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4" name=""/>
          <p:cNvGrpSpPr/>
          <p:nvPr/>
        </p:nvGrpSpPr>
        <p:grpSpPr>
          <a:xfrm>
            <a:off x="2057400" y="3352680"/>
            <a:ext cx="1752480" cy="304920"/>
            <a:chOff x="2057400" y="3352680"/>
            <a:chExt cx="1752480" cy="304920"/>
          </a:xfrm>
        </p:grpSpPr>
        <p:sp>
          <p:nvSpPr>
            <p:cNvPr id="485" name=""/>
            <p:cNvSpPr/>
            <p:nvPr/>
          </p:nvSpPr>
          <p:spPr>
            <a:xfrm>
              <a:off x="2057400" y="3657600"/>
              <a:ext cx="175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76360" y="3352680"/>
              <a:ext cx="12193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DTMF Rls  Req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7" name=""/>
          <p:cNvGrpSpPr/>
          <p:nvPr/>
        </p:nvGrpSpPr>
        <p:grpSpPr>
          <a:xfrm>
            <a:off x="2063880" y="2438280"/>
            <a:ext cx="1752480" cy="304920"/>
            <a:chOff x="2063880" y="2438280"/>
            <a:chExt cx="1752480" cy="304920"/>
          </a:xfrm>
        </p:grpSpPr>
        <p:sp>
          <p:nvSpPr>
            <p:cNvPr id="488" name=""/>
            <p:cNvSpPr/>
            <p:nvPr/>
          </p:nvSpPr>
          <p:spPr>
            <a:xfrm>
              <a:off x="2063880" y="2743200"/>
              <a:ext cx="175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2382840" y="2438280"/>
              <a:ext cx="12193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Rcv Digi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0" name=""/>
          <p:cNvGrpSpPr/>
          <p:nvPr/>
        </p:nvGrpSpPr>
        <p:grpSpPr>
          <a:xfrm>
            <a:off x="2063880" y="1981080"/>
            <a:ext cx="1752480" cy="304920"/>
            <a:chOff x="2063880" y="1981080"/>
            <a:chExt cx="1752480" cy="304920"/>
          </a:xfrm>
        </p:grpSpPr>
        <p:sp>
          <p:nvSpPr>
            <p:cNvPr id="491" name=""/>
            <p:cNvSpPr/>
            <p:nvPr/>
          </p:nvSpPr>
          <p:spPr>
            <a:xfrm>
              <a:off x="2382840" y="1981080"/>
              <a:ext cx="12193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Rcv Digi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2063880" y="2286000"/>
              <a:ext cx="175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3" name=""/>
          <p:cNvSpPr/>
          <p:nvPr/>
        </p:nvSpPr>
        <p:spPr>
          <a:xfrm>
            <a:off x="8502480" y="6458040"/>
            <a:ext cx="6098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0507A-33A6-4FFF-B163-2EFB3673335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돋움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ED04F5-C809-43AF-BD3A-38B6B5A0C60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"/>
          <p:cNvSpPr/>
          <p:nvPr/>
        </p:nvSpPr>
        <p:spPr>
          <a:xfrm>
            <a:off x="723960" y="533520"/>
            <a:ext cx="7174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LC/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3483000" y="533520"/>
            <a:ext cx="6858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C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4359240" y="533520"/>
            <a:ext cx="6285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w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7796160" y="533520"/>
            <a:ext cx="7239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LC/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5159520" y="533520"/>
            <a:ext cx="5839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C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1644480" y="533520"/>
            <a:ext cx="83844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DTM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Rece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2682720" y="533520"/>
            <a:ext cx="6159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Tim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6721560" y="533520"/>
            <a:ext cx="8380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DTM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Rece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5913360" y="533520"/>
            <a:ext cx="6159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Tim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30080" y="228600"/>
            <a:ext cx="77724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Extension (SLT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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LT) Call Trace 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1082520" y="914400"/>
            <a:ext cx="0" cy="5257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2057400" y="914400"/>
            <a:ext cx="0" cy="5257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2987640" y="914400"/>
            <a:ext cx="0" cy="5257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825720" y="914400"/>
            <a:ext cx="0" cy="5257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4676760" y="914400"/>
            <a:ext cx="0" cy="5257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5462640" y="914400"/>
            <a:ext cx="0" cy="5257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6232680" y="914400"/>
            <a:ext cx="0" cy="5257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147080" y="914400"/>
            <a:ext cx="0" cy="5257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8161200" y="914400"/>
            <a:ext cx="0" cy="5257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2895480" y="2895480"/>
            <a:ext cx="990720" cy="304920"/>
            <a:chOff x="2895480" y="2895480"/>
            <a:chExt cx="990720" cy="304920"/>
          </a:xfrm>
        </p:grpSpPr>
        <p:sp>
          <p:nvSpPr>
            <p:cNvPr id="514" name=""/>
            <p:cNvSpPr/>
            <p:nvPr/>
          </p:nvSpPr>
          <p:spPr>
            <a:xfrm>
              <a:off x="2981160" y="3200400"/>
              <a:ext cx="838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2895480" y="2895480"/>
              <a:ext cx="9907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Start Tone Loc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6" name=""/>
          <p:cNvGrpSpPr/>
          <p:nvPr/>
        </p:nvGrpSpPr>
        <p:grpSpPr>
          <a:xfrm>
            <a:off x="2819160" y="1981080"/>
            <a:ext cx="1104840" cy="304920"/>
            <a:chOff x="2819160" y="1981080"/>
            <a:chExt cx="1104840" cy="304920"/>
          </a:xfrm>
        </p:grpSpPr>
        <p:sp>
          <p:nvSpPr>
            <p:cNvPr id="517" name=""/>
            <p:cNvSpPr/>
            <p:nvPr/>
          </p:nvSpPr>
          <p:spPr>
            <a:xfrm flipH="1">
              <a:off x="2986200" y="2286000"/>
              <a:ext cx="823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 flipH="1">
              <a:off x="2818800" y="1981080"/>
              <a:ext cx="110484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TONLock TimeOu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"/>
          <p:cNvGrpSpPr/>
          <p:nvPr/>
        </p:nvGrpSpPr>
        <p:grpSpPr>
          <a:xfrm>
            <a:off x="4138560" y="5553000"/>
            <a:ext cx="1066680" cy="471600"/>
            <a:chOff x="4138560" y="5553000"/>
            <a:chExt cx="1066680" cy="471600"/>
          </a:xfrm>
        </p:grpSpPr>
        <p:sp>
          <p:nvSpPr>
            <p:cNvPr id="520" name=""/>
            <p:cNvSpPr/>
            <p:nvPr/>
          </p:nvSpPr>
          <p:spPr>
            <a:xfrm>
              <a:off x="4600440" y="5872320"/>
              <a:ext cx="152640" cy="152280"/>
            </a:xfrm>
            <a:custGeom>
              <a:avLst/>
              <a:gdLst>
                <a:gd name="textAreaLeft" fmla="*/ 0 w 152640"/>
                <a:gd name="textAreaRight" fmla="*/ 153000 w 15264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300" y="6500"/>
                  </a:lnTo>
                  <a:lnTo>
                    <a:pt x="4300" y="8600"/>
                  </a:lnTo>
                  <a:lnTo>
                    <a:pt x="8600" y="8600"/>
                  </a:lnTo>
                  <a:lnTo>
                    <a:pt x="8600" y="4300"/>
                  </a:lnTo>
                  <a:lnTo>
                    <a:pt x="6500" y="4300"/>
                  </a:lnTo>
                  <a:lnTo>
                    <a:pt x="10800" y="0"/>
                  </a:lnTo>
                  <a:lnTo>
                    <a:pt x="15100" y="4300"/>
                  </a:lnTo>
                  <a:lnTo>
                    <a:pt x="13000" y="4300"/>
                  </a:lnTo>
                  <a:lnTo>
                    <a:pt x="13000" y="8600"/>
                  </a:lnTo>
                  <a:lnTo>
                    <a:pt x="17300" y="8600"/>
                  </a:lnTo>
                  <a:lnTo>
                    <a:pt x="17300" y="6500"/>
                  </a:lnTo>
                  <a:lnTo>
                    <a:pt x="21600" y="10800"/>
                  </a:lnTo>
                  <a:lnTo>
                    <a:pt x="17300" y="15100"/>
                  </a:lnTo>
                  <a:lnTo>
                    <a:pt x="17300" y="13000"/>
                  </a:lnTo>
                  <a:lnTo>
                    <a:pt x="13000" y="13000"/>
                  </a:lnTo>
                  <a:lnTo>
                    <a:pt x="13000" y="17300"/>
                  </a:lnTo>
                  <a:lnTo>
                    <a:pt x="15100" y="17300"/>
                  </a:lnTo>
                  <a:lnTo>
                    <a:pt x="10800" y="21600"/>
                  </a:lnTo>
                  <a:lnTo>
                    <a:pt x="6500" y="17300"/>
                  </a:lnTo>
                  <a:lnTo>
                    <a:pt x="8600" y="17300"/>
                  </a:lnTo>
                  <a:lnTo>
                    <a:pt x="8600" y="13000"/>
                  </a:lnTo>
                  <a:lnTo>
                    <a:pt x="4300" y="13000"/>
                  </a:lnTo>
                  <a:lnTo>
                    <a:pt x="4300" y="151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138560" y="5553000"/>
              <a:ext cx="1066680" cy="304920"/>
            </a:xfrm>
            <a:prstGeom prst="rect">
              <a:avLst/>
            </a:prstGeom>
            <a:solidFill>
              <a:srgbClr val="ffffff"/>
            </a:solidFill>
            <a:ln cap="rnd" w="936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Cut Switchin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00c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2" name=""/>
          <p:cNvGrpSpPr/>
          <p:nvPr/>
        </p:nvGrpSpPr>
        <p:grpSpPr>
          <a:xfrm>
            <a:off x="5486400" y="1523880"/>
            <a:ext cx="2666880" cy="304920"/>
            <a:chOff x="5486400" y="1523880"/>
            <a:chExt cx="2666880" cy="304920"/>
          </a:xfrm>
        </p:grpSpPr>
        <p:sp>
          <p:nvSpPr>
            <p:cNvPr id="523" name=""/>
            <p:cNvSpPr/>
            <p:nvPr/>
          </p:nvSpPr>
          <p:spPr>
            <a:xfrm>
              <a:off x="5486400" y="1828800"/>
              <a:ext cx="2666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6629400" y="1523880"/>
              <a:ext cx="9619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Send Ring…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5" name=""/>
          <p:cNvGrpSpPr/>
          <p:nvPr/>
        </p:nvGrpSpPr>
        <p:grpSpPr>
          <a:xfrm>
            <a:off x="5487840" y="3809880"/>
            <a:ext cx="2667240" cy="306360"/>
            <a:chOff x="5487840" y="3809880"/>
            <a:chExt cx="2667240" cy="306360"/>
          </a:xfrm>
        </p:grpSpPr>
        <p:sp>
          <p:nvSpPr>
            <p:cNvPr id="526" name=""/>
            <p:cNvSpPr/>
            <p:nvPr/>
          </p:nvSpPr>
          <p:spPr>
            <a:xfrm>
              <a:off x="6673680" y="3809880"/>
              <a:ext cx="96228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Stop Ring..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5487840" y="4114800"/>
              <a:ext cx="26672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8" name=""/>
          <p:cNvSpPr/>
          <p:nvPr/>
        </p:nvSpPr>
        <p:spPr>
          <a:xfrm>
            <a:off x="728640" y="6172200"/>
            <a:ext cx="7174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LC/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3487680" y="6172200"/>
            <a:ext cx="6858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C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4363920" y="6172200"/>
            <a:ext cx="6289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w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7800840" y="6172200"/>
            <a:ext cx="7239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LC/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5164200" y="6172200"/>
            <a:ext cx="5842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C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1649520" y="6172200"/>
            <a:ext cx="8380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DTM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Rece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2687760" y="6172200"/>
            <a:ext cx="6159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Tim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6726240" y="6172200"/>
            <a:ext cx="8380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DTM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Rece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5918040" y="6172200"/>
            <a:ext cx="6159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Tim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7" name=""/>
          <p:cNvGrpSpPr/>
          <p:nvPr/>
        </p:nvGrpSpPr>
        <p:grpSpPr>
          <a:xfrm>
            <a:off x="5365800" y="4267080"/>
            <a:ext cx="961920" cy="304920"/>
            <a:chOff x="5365800" y="4267080"/>
            <a:chExt cx="961920" cy="304920"/>
          </a:xfrm>
        </p:grpSpPr>
        <p:sp>
          <p:nvSpPr>
            <p:cNvPr id="538" name=""/>
            <p:cNvSpPr/>
            <p:nvPr/>
          </p:nvSpPr>
          <p:spPr>
            <a:xfrm>
              <a:off x="5365800" y="4267080"/>
              <a:ext cx="9619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Stop Ring Loc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467320" y="4572000"/>
              <a:ext cx="762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0" name=""/>
          <p:cNvGrpSpPr/>
          <p:nvPr/>
        </p:nvGrpSpPr>
        <p:grpSpPr>
          <a:xfrm>
            <a:off x="5481720" y="4724280"/>
            <a:ext cx="2666880" cy="306360"/>
            <a:chOff x="5481720" y="4724280"/>
            <a:chExt cx="2666880" cy="306360"/>
          </a:xfrm>
        </p:grpSpPr>
        <p:sp>
          <p:nvSpPr>
            <p:cNvPr id="541" name=""/>
            <p:cNvSpPr/>
            <p:nvPr/>
          </p:nvSpPr>
          <p:spPr>
            <a:xfrm>
              <a:off x="6667560" y="4724280"/>
              <a:ext cx="9619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Start Rcv Dg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5481720" y="5029200"/>
              <a:ext cx="26668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3" name=""/>
          <p:cNvGrpSpPr/>
          <p:nvPr/>
        </p:nvGrpSpPr>
        <p:grpSpPr>
          <a:xfrm>
            <a:off x="3838320" y="5181480"/>
            <a:ext cx="1600200" cy="304920"/>
            <a:chOff x="3838320" y="5181480"/>
            <a:chExt cx="1600200" cy="304920"/>
          </a:xfrm>
        </p:grpSpPr>
        <p:sp>
          <p:nvSpPr>
            <p:cNvPr id="544" name=""/>
            <p:cNvSpPr/>
            <p:nvPr/>
          </p:nvSpPr>
          <p:spPr>
            <a:xfrm>
              <a:off x="4191120" y="5181480"/>
              <a:ext cx="9619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Line Answer..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 flipH="1">
              <a:off x="3838320" y="5486400"/>
              <a:ext cx="160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6" name=""/>
          <p:cNvGrpSpPr/>
          <p:nvPr/>
        </p:nvGrpSpPr>
        <p:grpSpPr>
          <a:xfrm>
            <a:off x="5338800" y="1066680"/>
            <a:ext cx="961920" cy="304920"/>
            <a:chOff x="5338800" y="1066680"/>
            <a:chExt cx="961920" cy="304920"/>
          </a:xfrm>
        </p:grpSpPr>
        <p:sp>
          <p:nvSpPr>
            <p:cNvPr id="547" name=""/>
            <p:cNvSpPr/>
            <p:nvPr/>
          </p:nvSpPr>
          <p:spPr>
            <a:xfrm>
              <a:off x="5467320" y="1371600"/>
              <a:ext cx="762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5338800" y="1066680"/>
              <a:ext cx="9619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Start Ring Loc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9" name=""/>
          <p:cNvGrpSpPr/>
          <p:nvPr/>
        </p:nvGrpSpPr>
        <p:grpSpPr>
          <a:xfrm>
            <a:off x="4133880" y="2352600"/>
            <a:ext cx="1066680" cy="471600"/>
            <a:chOff x="4133880" y="2352600"/>
            <a:chExt cx="1066680" cy="471600"/>
          </a:xfrm>
        </p:grpSpPr>
        <p:sp>
          <p:nvSpPr>
            <p:cNvPr id="550" name=""/>
            <p:cNvSpPr/>
            <p:nvPr/>
          </p:nvSpPr>
          <p:spPr>
            <a:xfrm>
              <a:off x="4595760" y="2671920"/>
              <a:ext cx="152280" cy="15228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300" y="6500"/>
                  </a:lnTo>
                  <a:lnTo>
                    <a:pt x="4300" y="8600"/>
                  </a:lnTo>
                  <a:lnTo>
                    <a:pt x="8600" y="8600"/>
                  </a:lnTo>
                  <a:lnTo>
                    <a:pt x="8600" y="4300"/>
                  </a:lnTo>
                  <a:lnTo>
                    <a:pt x="6500" y="4300"/>
                  </a:lnTo>
                  <a:lnTo>
                    <a:pt x="10800" y="0"/>
                  </a:lnTo>
                  <a:lnTo>
                    <a:pt x="15100" y="4300"/>
                  </a:lnTo>
                  <a:lnTo>
                    <a:pt x="13000" y="4300"/>
                  </a:lnTo>
                  <a:lnTo>
                    <a:pt x="13000" y="8600"/>
                  </a:lnTo>
                  <a:lnTo>
                    <a:pt x="17300" y="8600"/>
                  </a:lnTo>
                  <a:lnTo>
                    <a:pt x="17300" y="6500"/>
                  </a:lnTo>
                  <a:lnTo>
                    <a:pt x="21600" y="10800"/>
                  </a:lnTo>
                  <a:lnTo>
                    <a:pt x="17300" y="15100"/>
                  </a:lnTo>
                  <a:lnTo>
                    <a:pt x="17300" y="13000"/>
                  </a:lnTo>
                  <a:lnTo>
                    <a:pt x="13000" y="13000"/>
                  </a:lnTo>
                  <a:lnTo>
                    <a:pt x="13000" y="17300"/>
                  </a:lnTo>
                  <a:lnTo>
                    <a:pt x="15100" y="17300"/>
                  </a:lnTo>
                  <a:lnTo>
                    <a:pt x="10800" y="21600"/>
                  </a:lnTo>
                  <a:lnTo>
                    <a:pt x="6500" y="17300"/>
                  </a:lnTo>
                  <a:lnTo>
                    <a:pt x="8600" y="17300"/>
                  </a:lnTo>
                  <a:lnTo>
                    <a:pt x="8600" y="13000"/>
                  </a:lnTo>
                  <a:lnTo>
                    <a:pt x="4300" y="13000"/>
                  </a:lnTo>
                  <a:lnTo>
                    <a:pt x="4300" y="151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4133880" y="2352600"/>
              <a:ext cx="1066680" cy="304920"/>
            </a:xfrm>
            <a:prstGeom prst="rect">
              <a:avLst/>
            </a:prstGeom>
            <a:solidFill>
              <a:srgbClr val="ffffff"/>
            </a:solidFill>
            <a:ln cap="rnd" w="936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Make Switchin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00c0</a:t>
              </a:r>
              <a:r>
                <a:rPr b="0" lang="en-US" sz="10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</a:t>
              </a: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000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"/>
          <p:cNvGrpSpPr/>
          <p:nvPr/>
        </p:nvGrpSpPr>
        <p:grpSpPr>
          <a:xfrm>
            <a:off x="5475240" y="3333600"/>
            <a:ext cx="2666880" cy="324000"/>
            <a:chOff x="5475240" y="3333600"/>
            <a:chExt cx="2666880" cy="324000"/>
          </a:xfrm>
        </p:grpSpPr>
        <p:sp>
          <p:nvSpPr>
            <p:cNvPr id="553" name=""/>
            <p:cNvSpPr/>
            <p:nvPr/>
          </p:nvSpPr>
          <p:spPr>
            <a:xfrm>
              <a:off x="5475240" y="3657600"/>
              <a:ext cx="2666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67560" y="3333600"/>
              <a:ext cx="9619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Off Hoo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5" name=""/>
          <p:cNvSpPr/>
          <p:nvPr/>
        </p:nvSpPr>
        <p:spPr>
          <a:xfrm>
            <a:off x="8502480" y="6458040"/>
            <a:ext cx="6098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3CC38-FED6-40FE-A62D-FA412F2B7C1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돋움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AF5355-D40E-4A98-8062-DE146558911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"/>
          <p:cNvSpPr/>
          <p:nvPr/>
        </p:nvSpPr>
        <p:spPr>
          <a:xfrm>
            <a:off x="723960" y="533520"/>
            <a:ext cx="7174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LC/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3483000" y="533520"/>
            <a:ext cx="6858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C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4359240" y="533520"/>
            <a:ext cx="6285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w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7796160" y="533520"/>
            <a:ext cx="7239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LC/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5159520" y="533520"/>
            <a:ext cx="5839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C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1644480" y="533520"/>
            <a:ext cx="83844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DTM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Rece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682720" y="533520"/>
            <a:ext cx="6159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Tim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6721560" y="533520"/>
            <a:ext cx="8380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DTM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Rece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5913360" y="533520"/>
            <a:ext cx="6159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Tim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730080" y="228600"/>
            <a:ext cx="77724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Extension (SLT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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LT) Call Trace 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1082520" y="914400"/>
            <a:ext cx="0" cy="5257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2057400" y="914400"/>
            <a:ext cx="0" cy="5257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2987640" y="914400"/>
            <a:ext cx="0" cy="5257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3825720" y="914400"/>
            <a:ext cx="0" cy="5257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4676760" y="914400"/>
            <a:ext cx="0" cy="5257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5462640" y="914400"/>
            <a:ext cx="0" cy="5257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6232680" y="914400"/>
            <a:ext cx="0" cy="5257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7147080" y="914400"/>
            <a:ext cx="0" cy="5257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8161200" y="914400"/>
            <a:ext cx="0" cy="5257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5" name=""/>
          <p:cNvGrpSpPr/>
          <p:nvPr/>
        </p:nvGrpSpPr>
        <p:grpSpPr>
          <a:xfrm>
            <a:off x="1085760" y="2438280"/>
            <a:ext cx="2724120" cy="304920"/>
            <a:chOff x="1085760" y="2438280"/>
            <a:chExt cx="2724120" cy="304920"/>
          </a:xfrm>
        </p:grpSpPr>
        <p:sp>
          <p:nvSpPr>
            <p:cNvPr id="576" name=""/>
            <p:cNvSpPr/>
            <p:nvPr/>
          </p:nvSpPr>
          <p:spPr>
            <a:xfrm>
              <a:off x="1085760" y="2743200"/>
              <a:ext cx="2724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023920" y="2438280"/>
              <a:ext cx="9907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On Hook…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8" name=""/>
          <p:cNvGrpSpPr/>
          <p:nvPr/>
        </p:nvGrpSpPr>
        <p:grpSpPr>
          <a:xfrm>
            <a:off x="4140360" y="4641840"/>
            <a:ext cx="1066680" cy="471600"/>
            <a:chOff x="4140360" y="4641840"/>
            <a:chExt cx="1066680" cy="471600"/>
          </a:xfrm>
        </p:grpSpPr>
        <p:sp>
          <p:nvSpPr>
            <p:cNvPr id="579" name=""/>
            <p:cNvSpPr/>
            <p:nvPr/>
          </p:nvSpPr>
          <p:spPr>
            <a:xfrm>
              <a:off x="4602240" y="4960800"/>
              <a:ext cx="152280" cy="15264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300" y="6500"/>
                  </a:lnTo>
                  <a:lnTo>
                    <a:pt x="4300" y="8600"/>
                  </a:lnTo>
                  <a:lnTo>
                    <a:pt x="8600" y="8600"/>
                  </a:lnTo>
                  <a:lnTo>
                    <a:pt x="8600" y="4300"/>
                  </a:lnTo>
                  <a:lnTo>
                    <a:pt x="6500" y="4300"/>
                  </a:lnTo>
                  <a:lnTo>
                    <a:pt x="10800" y="0"/>
                  </a:lnTo>
                  <a:lnTo>
                    <a:pt x="15100" y="4300"/>
                  </a:lnTo>
                  <a:lnTo>
                    <a:pt x="13000" y="4300"/>
                  </a:lnTo>
                  <a:lnTo>
                    <a:pt x="13000" y="8600"/>
                  </a:lnTo>
                  <a:lnTo>
                    <a:pt x="17300" y="8600"/>
                  </a:lnTo>
                  <a:lnTo>
                    <a:pt x="17300" y="6500"/>
                  </a:lnTo>
                  <a:lnTo>
                    <a:pt x="21600" y="10800"/>
                  </a:lnTo>
                  <a:lnTo>
                    <a:pt x="17300" y="15100"/>
                  </a:lnTo>
                  <a:lnTo>
                    <a:pt x="17300" y="13000"/>
                  </a:lnTo>
                  <a:lnTo>
                    <a:pt x="13000" y="13000"/>
                  </a:lnTo>
                  <a:lnTo>
                    <a:pt x="13000" y="17300"/>
                  </a:lnTo>
                  <a:lnTo>
                    <a:pt x="15100" y="17300"/>
                  </a:lnTo>
                  <a:lnTo>
                    <a:pt x="10800" y="21600"/>
                  </a:lnTo>
                  <a:lnTo>
                    <a:pt x="6500" y="17300"/>
                  </a:lnTo>
                  <a:lnTo>
                    <a:pt x="8600" y="17300"/>
                  </a:lnTo>
                  <a:lnTo>
                    <a:pt x="8600" y="13000"/>
                  </a:lnTo>
                  <a:lnTo>
                    <a:pt x="4300" y="13000"/>
                  </a:lnTo>
                  <a:lnTo>
                    <a:pt x="4300" y="151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140360" y="4641840"/>
              <a:ext cx="1066680" cy="304920"/>
            </a:xfrm>
            <a:prstGeom prst="rect">
              <a:avLst/>
            </a:prstGeom>
            <a:solidFill>
              <a:srgbClr val="ffffff"/>
            </a:solidFill>
            <a:ln cap="rnd" w="936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Make Switchin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0002</a:t>
              </a:r>
              <a:r>
                <a:rPr b="0" lang="en-US" sz="10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00c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1" name=""/>
          <p:cNvGrpSpPr/>
          <p:nvPr/>
        </p:nvGrpSpPr>
        <p:grpSpPr>
          <a:xfrm>
            <a:off x="2909880" y="1066680"/>
            <a:ext cx="961920" cy="304920"/>
            <a:chOff x="2909880" y="1066680"/>
            <a:chExt cx="961920" cy="304920"/>
          </a:xfrm>
        </p:grpSpPr>
        <p:sp>
          <p:nvSpPr>
            <p:cNvPr id="582" name=""/>
            <p:cNvSpPr/>
            <p:nvPr/>
          </p:nvSpPr>
          <p:spPr>
            <a:xfrm>
              <a:off x="2990880" y="1371600"/>
              <a:ext cx="819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2909880" y="1066680"/>
              <a:ext cx="9619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Stop Tone Loc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4" name=""/>
          <p:cNvSpPr/>
          <p:nvPr/>
        </p:nvSpPr>
        <p:spPr>
          <a:xfrm>
            <a:off x="728640" y="6172200"/>
            <a:ext cx="7174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LC/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3487680" y="6172200"/>
            <a:ext cx="6858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C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4363920" y="6172200"/>
            <a:ext cx="6289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w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7800840" y="6172200"/>
            <a:ext cx="7239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LC/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5164200" y="6172200"/>
            <a:ext cx="5842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C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1649520" y="6172200"/>
            <a:ext cx="8380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DTM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Rece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2687760" y="6172200"/>
            <a:ext cx="6159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Tim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6726240" y="6172200"/>
            <a:ext cx="8380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DTM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Rece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5918040" y="6172200"/>
            <a:ext cx="6159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Tim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3" name=""/>
          <p:cNvGrpSpPr/>
          <p:nvPr/>
        </p:nvGrpSpPr>
        <p:grpSpPr>
          <a:xfrm>
            <a:off x="3838320" y="3809880"/>
            <a:ext cx="1600200" cy="304920"/>
            <a:chOff x="3838320" y="3809880"/>
            <a:chExt cx="1600200" cy="304920"/>
          </a:xfrm>
        </p:grpSpPr>
        <p:sp>
          <p:nvSpPr>
            <p:cNvPr id="594" name=""/>
            <p:cNvSpPr/>
            <p:nvPr/>
          </p:nvSpPr>
          <p:spPr>
            <a:xfrm>
              <a:off x="4191120" y="3809880"/>
              <a:ext cx="9619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Line Release..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 flipH="1">
              <a:off x="3838320" y="4114800"/>
              <a:ext cx="160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6" name=""/>
          <p:cNvGrpSpPr/>
          <p:nvPr/>
        </p:nvGrpSpPr>
        <p:grpSpPr>
          <a:xfrm>
            <a:off x="4124160" y="1900080"/>
            <a:ext cx="1067040" cy="471600"/>
            <a:chOff x="4124160" y="1900080"/>
            <a:chExt cx="1067040" cy="471600"/>
          </a:xfrm>
        </p:grpSpPr>
        <p:sp>
          <p:nvSpPr>
            <p:cNvPr id="597" name=""/>
            <p:cNvSpPr/>
            <p:nvPr/>
          </p:nvSpPr>
          <p:spPr>
            <a:xfrm>
              <a:off x="4586400" y="2219400"/>
              <a:ext cx="152280" cy="15228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300" y="6500"/>
                  </a:lnTo>
                  <a:lnTo>
                    <a:pt x="4300" y="8600"/>
                  </a:lnTo>
                  <a:lnTo>
                    <a:pt x="8600" y="8600"/>
                  </a:lnTo>
                  <a:lnTo>
                    <a:pt x="8600" y="4300"/>
                  </a:lnTo>
                  <a:lnTo>
                    <a:pt x="6500" y="4300"/>
                  </a:lnTo>
                  <a:lnTo>
                    <a:pt x="10800" y="0"/>
                  </a:lnTo>
                  <a:lnTo>
                    <a:pt x="15100" y="4300"/>
                  </a:lnTo>
                  <a:lnTo>
                    <a:pt x="13000" y="4300"/>
                  </a:lnTo>
                  <a:lnTo>
                    <a:pt x="13000" y="8600"/>
                  </a:lnTo>
                  <a:lnTo>
                    <a:pt x="17300" y="8600"/>
                  </a:lnTo>
                  <a:lnTo>
                    <a:pt x="17300" y="6500"/>
                  </a:lnTo>
                  <a:lnTo>
                    <a:pt x="21600" y="10800"/>
                  </a:lnTo>
                  <a:lnTo>
                    <a:pt x="17300" y="15100"/>
                  </a:lnTo>
                  <a:lnTo>
                    <a:pt x="17300" y="13000"/>
                  </a:lnTo>
                  <a:lnTo>
                    <a:pt x="13000" y="13000"/>
                  </a:lnTo>
                  <a:lnTo>
                    <a:pt x="13000" y="17300"/>
                  </a:lnTo>
                  <a:lnTo>
                    <a:pt x="15100" y="17300"/>
                  </a:lnTo>
                  <a:lnTo>
                    <a:pt x="10800" y="21600"/>
                  </a:lnTo>
                  <a:lnTo>
                    <a:pt x="6500" y="17300"/>
                  </a:lnTo>
                  <a:lnTo>
                    <a:pt x="8600" y="17300"/>
                  </a:lnTo>
                  <a:lnTo>
                    <a:pt x="8600" y="13000"/>
                  </a:lnTo>
                  <a:lnTo>
                    <a:pt x="4300" y="13000"/>
                  </a:lnTo>
                  <a:lnTo>
                    <a:pt x="4300" y="151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4124160" y="1900080"/>
              <a:ext cx="1067040" cy="304920"/>
            </a:xfrm>
            <a:prstGeom prst="rect">
              <a:avLst/>
            </a:prstGeom>
            <a:solidFill>
              <a:srgbClr val="ffffff"/>
            </a:solidFill>
            <a:ln cap="rnd" w="936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Make Switchin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00c0</a:t>
              </a:r>
              <a:r>
                <a:rPr b="0" lang="en-US" sz="10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00c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9" name=""/>
          <p:cNvGrpSpPr/>
          <p:nvPr/>
        </p:nvGrpSpPr>
        <p:grpSpPr>
          <a:xfrm>
            <a:off x="4146480" y="1440000"/>
            <a:ext cx="1067040" cy="471240"/>
            <a:chOff x="4146480" y="1440000"/>
            <a:chExt cx="1067040" cy="471240"/>
          </a:xfrm>
        </p:grpSpPr>
        <p:sp>
          <p:nvSpPr>
            <p:cNvPr id="600" name=""/>
            <p:cNvSpPr/>
            <p:nvPr/>
          </p:nvSpPr>
          <p:spPr>
            <a:xfrm>
              <a:off x="4146480" y="1440000"/>
              <a:ext cx="1067040" cy="304560"/>
            </a:xfrm>
            <a:prstGeom prst="rect">
              <a:avLst/>
            </a:prstGeom>
            <a:solidFill>
              <a:srgbClr val="ffffff"/>
            </a:solidFill>
            <a:ln cap="rnd" w="936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Make Switchin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00c0</a:t>
              </a:r>
              <a:r>
                <a:rPr b="0" lang="en-US" sz="10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</a:t>
              </a: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00c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4608360" y="1758960"/>
              <a:ext cx="152640" cy="152280"/>
            </a:xfrm>
            <a:custGeom>
              <a:avLst/>
              <a:gdLst>
                <a:gd name="textAreaLeft" fmla="*/ 0 w 152640"/>
                <a:gd name="textAreaRight" fmla="*/ 153000 w 15264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300" y="6500"/>
                  </a:lnTo>
                  <a:lnTo>
                    <a:pt x="4300" y="8600"/>
                  </a:lnTo>
                  <a:lnTo>
                    <a:pt x="8600" y="8600"/>
                  </a:lnTo>
                  <a:lnTo>
                    <a:pt x="8600" y="4300"/>
                  </a:lnTo>
                  <a:lnTo>
                    <a:pt x="6500" y="4300"/>
                  </a:lnTo>
                  <a:lnTo>
                    <a:pt x="10800" y="0"/>
                  </a:lnTo>
                  <a:lnTo>
                    <a:pt x="15100" y="4300"/>
                  </a:lnTo>
                  <a:lnTo>
                    <a:pt x="13000" y="4300"/>
                  </a:lnTo>
                  <a:lnTo>
                    <a:pt x="13000" y="8600"/>
                  </a:lnTo>
                  <a:lnTo>
                    <a:pt x="17300" y="8600"/>
                  </a:lnTo>
                  <a:lnTo>
                    <a:pt x="17300" y="6500"/>
                  </a:lnTo>
                  <a:lnTo>
                    <a:pt x="21600" y="10800"/>
                  </a:lnTo>
                  <a:lnTo>
                    <a:pt x="17300" y="15100"/>
                  </a:lnTo>
                  <a:lnTo>
                    <a:pt x="17300" y="13000"/>
                  </a:lnTo>
                  <a:lnTo>
                    <a:pt x="13000" y="13000"/>
                  </a:lnTo>
                  <a:lnTo>
                    <a:pt x="13000" y="17300"/>
                  </a:lnTo>
                  <a:lnTo>
                    <a:pt x="15100" y="17300"/>
                  </a:lnTo>
                  <a:lnTo>
                    <a:pt x="10800" y="21600"/>
                  </a:lnTo>
                  <a:lnTo>
                    <a:pt x="6500" y="17300"/>
                  </a:lnTo>
                  <a:lnTo>
                    <a:pt x="8600" y="17300"/>
                  </a:lnTo>
                  <a:lnTo>
                    <a:pt x="8600" y="13000"/>
                  </a:lnTo>
                  <a:lnTo>
                    <a:pt x="4300" y="13000"/>
                  </a:lnTo>
                  <a:lnTo>
                    <a:pt x="4300" y="151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2" name=""/>
          <p:cNvGrpSpPr/>
          <p:nvPr/>
        </p:nvGrpSpPr>
        <p:grpSpPr>
          <a:xfrm>
            <a:off x="1085760" y="2901960"/>
            <a:ext cx="2743200" cy="298440"/>
            <a:chOff x="1085760" y="2901960"/>
            <a:chExt cx="2743200" cy="298440"/>
          </a:xfrm>
        </p:grpSpPr>
        <p:sp>
          <p:nvSpPr>
            <p:cNvPr id="603" name=""/>
            <p:cNvSpPr/>
            <p:nvPr/>
          </p:nvSpPr>
          <p:spPr>
            <a:xfrm>
              <a:off x="1940040" y="2901960"/>
              <a:ext cx="117144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Stop Rcv Dg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1085760" y="3200400"/>
              <a:ext cx="2743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5" name=""/>
          <p:cNvGrpSpPr/>
          <p:nvPr/>
        </p:nvGrpSpPr>
        <p:grpSpPr>
          <a:xfrm>
            <a:off x="4146480" y="3263760"/>
            <a:ext cx="1067040" cy="471600"/>
            <a:chOff x="4146480" y="3263760"/>
            <a:chExt cx="1067040" cy="471600"/>
          </a:xfrm>
        </p:grpSpPr>
        <p:sp>
          <p:nvSpPr>
            <p:cNvPr id="606" name=""/>
            <p:cNvSpPr/>
            <p:nvPr/>
          </p:nvSpPr>
          <p:spPr>
            <a:xfrm>
              <a:off x="4608360" y="3583080"/>
              <a:ext cx="152640" cy="152280"/>
            </a:xfrm>
            <a:custGeom>
              <a:avLst/>
              <a:gdLst>
                <a:gd name="textAreaLeft" fmla="*/ 0 w 152640"/>
                <a:gd name="textAreaRight" fmla="*/ 153000 w 15264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300" y="6500"/>
                  </a:lnTo>
                  <a:lnTo>
                    <a:pt x="4300" y="8600"/>
                  </a:lnTo>
                  <a:lnTo>
                    <a:pt x="8600" y="8600"/>
                  </a:lnTo>
                  <a:lnTo>
                    <a:pt x="8600" y="4300"/>
                  </a:lnTo>
                  <a:lnTo>
                    <a:pt x="6500" y="4300"/>
                  </a:lnTo>
                  <a:lnTo>
                    <a:pt x="10800" y="0"/>
                  </a:lnTo>
                  <a:lnTo>
                    <a:pt x="15100" y="4300"/>
                  </a:lnTo>
                  <a:lnTo>
                    <a:pt x="13000" y="4300"/>
                  </a:lnTo>
                  <a:lnTo>
                    <a:pt x="13000" y="8600"/>
                  </a:lnTo>
                  <a:lnTo>
                    <a:pt x="17300" y="8600"/>
                  </a:lnTo>
                  <a:lnTo>
                    <a:pt x="17300" y="6500"/>
                  </a:lnTo>
                  <a:lnTo>
                    <a:pt x="21600" y="10800"/>
                  </a:lnTo>
                  <a:lnTo>
                    <a:pt x="17300" y="15100"/>
                  </a:lnTo>
                  <a:lnTo>
                    <a:pt x="17300" y="13000"/>
                  </a:lnTo>
                  <a:lnTo>
                    <a:pt x="13000" y="13000"/>
                  </a:lnTo>
                  <a:lnTo>
                    <a:pt x="13000" y="17300"/>
                  </a:lnTo>
                  <a:lnTo>
                    <a:pt x="15100" y="17300"/>
                  </a:lnTo>
                  <a:lnTo>
                    <a:pt x="10800" y="21600"/>
                  </a:lnTo>
                  <a:lnTo>
                    <a:pt x="6500" y="17300"/>
                  </a:lnTo>
                  <a:lnTo>
                    <a:pt x="8600" y="17300"/>
                  </a:lnTo>
                  <a:lnTo>
                    <a:pt x="8600" y="13000"/>
                  </a:lnTo>
                  <a:lnTo>
                    <a:pt x="4300" y="13000"/>
                  </a:lnTo>
                  <a:lnTo>
                    <a:pt x="4300" y="151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4146480" y="3263760"/>
              <a:ext cx="1067040" cy="304920"/>
            </a:xfrm>
            <a:prstGeom prst="rect">
              <a:avLst/>
            </a:prstGeom>
            <a:solidFill>
              <a:srgbClr val="ffffff"/>
            </a:solidFill>
            <a:ln cap="rnd" w="936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Cut Switchin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00c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8" name=""/>
          <p:cNvGrpSpPr/>
          <p:nvPr/>
        </p:nvGrpSpPr>
        <p:grpSpPr>
          <a:xfrm>
            <a:off x="4152960" y="4184640"/>
            <a:ext cx="1066680" cy="471600"/>
            <a:chOff x="4152960" y="4184640"/>
            <a:chExt cx="1066680" cy="471600"/>
          </a:xfrm>
        </p:grpSpPr>
        <p:sp>
          <p:nvSpPr>
            <p:cNvPr id="609" name=""/>
            <p:cNvSpPr/>
            <p:nvPr/>
          </p:nvSpPr>
          <p:spPr>
            <a:xfrm>
              <a:off x="4152960" y="4184640"/>
              <a:ext cx="1066680" cy="304920"/>
            </a:xfrm>
            <a:prstGeom prst="rect">
              <a:avLst/>
            </a:prstGeom>
            <a:solidFill>
              <a:srgbClr val="ffffff"/>
            </a:solidFill>
            <a:ln cap="rnd" w="936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Cut Switchin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00c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4614840" y="4503600"/>
              <a:ext cx="152280" cy="15264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300" y="6500"/>
                  </a:lnTo>
                  <a:lnTo>
                    <a:pt x="4300" y="8600"/>
                  </a:lnTo>
                  <a:lnTo>
                    <a:pt x="8600" y="8600"/>
                  </a:lnTo>
                  <a:lnTo>
                    <a:pt x="8600" y="4300"/>
                  </a:lnTo>
                  <a:lnTo>
                    <a:pt x="6500" y="4300"/>
                  </a:lnTo>
                  <a:lnTo>
                    <a:pt x="10800" y="0"/>
                  </a:lnTo>
                  <a:lnTo>
                    <a:pt x="15100" y="4300"/>
                  </a:lnTo>
                  <a:lnTo>
                    <a:pt x="13000" y="4300"/>
                  </a:lnTo>
                  <a:lnTo>
                    <a:pt x="13000" y="8600"/>
                  </a:lnTo>
                  <a:lnTo>
                    <a:pt x="17300" y="8600"/>
                  </a:lnTo>
                  <a:lnTo>
                    <a:pt x="17300" y="6500"/>
                  </a:lnTo>
                  <a:lnTo>
                    <a:pt x="21600" y="10800"/>
                  </a:lnTo>
                  <a:lnTo>
                    <a:pt x="17300" y="15100"/>
                  </a:lnTo>
                  <a:lnTo>
                    <a:pt x="17300" y="13000"/>
                  </a:lnTo>
                  <a:lnTo>
                    <a:pt x="13000" y="13000"/>
                  </a:lnTo>
                  <a:lnTo>
                    <a:pt x="13000" y="17300"/>
                  </a:lnTo>
                  <a:lnTo>
                    <a:pt x="15100" y="17300"/>
                  </a:lnTo>
                  <a:lnTo>
                    <a:pt x="10800" y="21600"/>
                  </a:lnTo>
                  <a:lnTo>
                    <a:pt x="6500" y="17300"/>
                  </a:lnTo>
                  <a:lnTo>
                    <a:pt x="8600" y="17300"/>
                  </a:lnTo>
                  <a:lnTo>
                    <a:pt x="8600" y="13000"/>
                  </a:lnTo>
                  <a:lnTo>
                    <a:pt x="4300" y="13000"/>
                  </a:lnTo>
                  <a:lnTo>
                    <a:pt x="4300" y="151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1" name=""/>
          <p:cNvGrpSpPr/>
          <p:nvPr/>
        </p:nvGrpSpPr>
        <p:grpSpPr>
          <a:xfrm>
            <a:off x="5334120" y="5181480"/>
            <a:ext cx="961920" cy="304920"/>
            <a:chOff x="5334120" y="5181480"/>
            <a:chExt cx="961920" cy="304920"/>
          </a:xfrm>
        </p:grpSpPr>
        <p:sp>
          <p:nvSpPr>
            <p:cNvPr id="612" name=""/>
            <p:cNvSpPr/>
            <p:nvPr/>
          </p:nvSpPr>
          <p:spPr>
            <a:xfrm>
              <a:off x="5334120" y="5181480"/>
              <a:ext cx="9619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Start Tone Loc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 flipH="1">
              <a:off x="5482800" y="5486400"/>
              <a:ext cx="733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4" name=""/>
          <p:cNvGrpSpPr/>
          <p:nvPr/>
        </p:nvGrpSpPr>
        <p:grpSpPr>
          <a:xfrm>
            <a:off x="5479920" y="5645160"/>
            <a:ext cx="2667240" cy="298440"/>
            <a:chOff x="5479920" y="5645160"/>
            <a:chExt cx="2667240" cy="298440"/>
          </a:xfrm>
        </p:grpSpPr>
        <p:sp>
          <p:nvSpPr>
            <p:cNvPr id="615" name=""/>
            <p:cNvSpPr/>
            <p:nvPr/>
          </p:nvSpPr>
          <p:spPr>
            <a:xfrm>
              <a:off x="5479920" y="5943600"/>
              <a:ext cx="2667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6095880" y="5645160"/>
              <a:ext cx="117180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Stop Rcv Dg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7" name=""/>
          <p:cNvSpPr/>
          <p:nvPr/>
        </p:nvSpPr>
        <p:spPr>
          <a:xfrm>
            <a:off x="8502480" y="6458040"/>
            <a:ext cx="6098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4A6EF-71DC-4080-AD58-ED63BAFFCD0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돋움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8C0FC9-7306-4FCA-A14A-3C032CCB524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"/>
          <p:cNvSpPr/>
          <p:nvPr/>
        </p:nvSpPr>
        <p:spPr>
          <a:xfrm>
            <a:off x="723960" y="533520"/>
            <a:ext cx="7174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LC/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3483000" y="533520"/>
            <a:ext cx="6858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C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4359240" y="533520"/>
            <a:ext cx="6285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w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7796160" y="533520"/>
            <a:ext cx="7239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LC/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5159520" y="533520"/>
            <a:ext cx="5839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C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1644480" y="533520"/>
            <a:ext cx="83844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DTM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Rece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82720" y="533520"/>
            <a:ext cx="6159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Tim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6721560" y="533520"/>
            <a:ext cx="8380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DTM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Rece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5913360" y="533520"/>
            <a:ext cx="6159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Tim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730080" y="228600"/>
            <a:ext cx="77724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Extension (SLT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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LT) Call Trace 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1082520" y="914400"/>
            <a:ext cx="0" cy="5257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057400" y="914400"/>
            <a:ext cx="0" cy="5257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987640" y="914400"/>
            <a:ext cx="0" cy="5257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3825720" y="914400"/>
            <a:ext cx="0" cy="5257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4676760" y="914400"/>
            <a:ext cx="0" cy="5257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5462640" y="914400"/>
            <a:ext cx="0" cy="5257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6232680" y="914400"/>
            <a:ext cx="0" cy="5257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7147080" y="914400"/>
            <a:ext cx="0" cy="5257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8161200" y="914400"/>
            <a:ext cx="0" cy="5257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7" name=""/>
          <p:cNvGrpSpPr/>
          <p:nvPr/>
        </p:nvGrpSpPr>
        <p:grpSpPr>
          <a:xfrm>
            <a:off x="5486400" y="1073160"/>
            <a:ext cx="2666880" cy="298440"/>
            <a:chOff x="5486400" y="1073160"/>
            <a:chExt cx="2666880" cy="298440"/>
          </a:xfrm>
        </p:grpSpPr>
        <p:sp>
          <p:nvSpPr>
            <p:cNvPr id="638" name=""/>
            <p:cNvSpPr/>
            <p:nvPr/>
          </p:nvSpPr>
          <p:spPr>
            <a:xfrm>
              <a:off x="5486400" y="1371600"/>
              <a:ext cx="2666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6664320" y="1073160"/>
              <a:ext cx="9619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On Hoo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0" name=""/>
          <p:cNvSpPr/>
          <p:nvPr/>
        </p:nvSpPr>
        <p:spPr>
          <a:xfrm>
            <a:off x="728640" y="6172200"/>
            <a:ext cx="7174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LC/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3487680" y="6172200"/>
            <a:ext cx="6858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C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4363920" y="6172200"/>
            <a:ext cx="6289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w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7800840" y="6172200"/>
            <a:ext cx="7239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LC/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5164200" y="6172200"/>
            <a:ext cx="5842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C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1649520" y="6172200"/>
            <a:ext cx="8380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DTM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Rece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2687760" y="6172200"/>
            <a:ext cx="6159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Tim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6726240" y="6172200"/>
            <a:ext cx="8380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DTM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Rece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5918040" y="6172200"/>
            <a:ext cx="6159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Tim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9" name=""/>
          <p:cNvGrpSpPr/>
          <p:nvPr/>
        </p:nvGrpSpPr>
        <p:grpSpPr>
          <a:xfrm>
            <a:off x="4146480" y="2806560"/>
            <a:ext cx="1067040" cy="471600"/>
            <a:chOff x="4146480" y="2806560"/>
            <a:chExt cx="1067040" cy="471600"/>
          </a:xfrm>
        </p:grpSpPr>
        <p:sp>
          <p:nvSpPr>
            <p:cNvPr id="650" name=""/>
            <p:cNvSpPr/>
            <p:nvPr/>
          </p:nvSpPr>
          <p:spPr>
            <a:xfrm>
              <a:off x="4146480" y="2806560"/>
              <a:ext cx="1067040" cy="304920"/>
            </a:xfrm>
            <a:prstGeom prst="rect">
              <a:avLst/>
            </a:prstGeom>
            <a:solidFill>
              <a:srgbClr val="ffffff"/>
            </a:solidFill>
            <a:ln cap="rnd" w="936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Cut Switchin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00c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4608360" y="3125880"/>
              <a:ext cx="152640" cy="152280"/>
            </a:xfrm>
            <a:custGeom>
              <a:avLst/>
              <a:gdLst>
                <a:gd name="textAreaLeft" fmla="*/ 0 w 152640"/>
                <a:gd name="textAreaRight" fmla="*/ 153000 w 15264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300" y="6500"/>
                  </a:lnTo>
                  <a:lnTo>
                    <a:pt x="4300" y="8600"/>
                  </a:lnTo>
                  <a:lnTo>
                    <a:pt x="8600" y="8600"/>
                  </a:lnTo>
                  <a:lnTo>
                    <a:pt x="8600" y="4300"/>
                  </a:lnTo>
                  <a:lnTo>
                    <a:pt x="6500" y="4300"/>
                  </a:lnTo>
                  <a:lnTo>
                    <a:pt x="10800" y="0"/>
                  </a:lnTo>
                  <a:lnTo>
                    <a:pt x="15100" y="4300"/>
                  </a:lnTo>
                  <a:lnTo>
                    <a:pt x="13000" y="4300"/>
                  </a:lnTo>
                  <a:lnTo>
                    <a:pt x="13000" y="8600"/>
                  </a:lnTo>
                  <a:lnTo>
                    <a:pt x="17300" y="8600"/>
                  </a:lnTo>
                  <a:lnTo>
                    <a:pt x="17300" y="6500"/>
                  </a:lnTo>
                  <a:lnTo>
                    <a:pt x="21600" y="10800"/>
                  </a:lnTo>
                  <a:lnTo>
                    <a:pt x="17300" y="15100"/>
                  </a:lnTo>
                  <a:lnTo>
                    <a:pt x="17300" y="13000"/>
                  </a:lnTo>
                  <a:lnTo>
                    <a:pt x="13000" y="13000"/>
                  </a:lnTo>
                  <a:lnTo>
                    <a:pt x="13000" y="17300"/>
                  </a:lnTo>
                  <a:lnTo>
                    <a:pt x="15100" y="17300"/>
                  </a:lnTo>
                  <a:lnTo>
                    <a:pt x="10800" y="21600"/>
                  </a:lnTo>
                  <a:lnTo>
                    <a:pt x="6500" y="17300"/>
                  </a:lnTo>
                  <a:lnTo>
                    <a:pt x="8600" y="17300"/>
                  </a:lnTo>
                  <a:lnTo>
                    <a:pt x="8600" y="13000"/>
                  </a:lnTo>
                  <a:lnTo>
                    <a:pt x="4300" y="13000"/>
                  </a:lnTo>
                  <a:lnTo>
                    <a:pt x="4300" y="151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2" name=""/>
          <p:cNvGrpSpPr/>
          <p:nvPr/>
        </p:nvGrpSpPr>
        <p:grpSpPr>
          <a:xfrm>
            <a:off x="5257800" y="1981080"/>
            <a:ext cx="1171440" cy="304920"/>
            <a:chOff x="5257800" y="1981080"/>
            <a:chExt cx="1171440" cy="304920"/>
          </a:xfrm>
        </p:grpSpPr>
        <p:sp>
          <p:nvSpPr>
            <p:cNvPr id="653" name=""/>
            <p:cNvSpPr/>
            <p:nvPr/>
          </p:nvSpPr>
          <p:spPr>
            <a:xfrm>
              <a:off x="5257800" y="1981080"/>
              <a:ext cx="117144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Stop Tone Loc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5451480" y="2286000"/>
              <a:ext cx="777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5" name=""/>
          <p:cNvGrpSpPr/>
          <p:nvPr/>
        </p:nvGrpSpPr>
        <p:grpSpPr>
          <a:xfrm>
            <a:off x="5470560" y="2438280"/>
            <a:ext cx="2682720" cy="304920"/>
            <a:chOff x="5470560" y="2438280"/>
            <a:chExt cx="2682720" cy="304920"/>
          </a:xfrm>
        </p:grpSpPr>
        <p:sp>
          <p:nvSpPr>
            <p:cNvPr id="656" name=""/>
            <p:cNvSpPr/>
            <p:nvPr/>
          </p:nvSpPr>
          <p:spPr>
            <a:xfrm>
              <a:off x="6324480" y="2438280"/>
              <a:ext cx="117180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Stop Rcv Dg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5470560" y="2743200"/>
              <a:ext cx="268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8" name=""/>
          <p:cNvGrpSpPr/>
          <p:nvPr/>
        </p:nvGrpSpPr>
        <p:grpSpPr>
          <a:xfrm>
            <a:off x="4138560" y="1438200"/>
            <a:ext cx="1066680" cy="471600"/>
            <a:chOff x="4138560" y="1438200"/>
            <a:chExt cx="1066680" cy="471600"/>
          </a:xfrm>
        </p:grpSpPr>
        <p:sp>
          <p:nvSpPr>
            <p:cNvPr id="659" name=""/>
            <p:cNvSpPr/>
            <p:nvPr/>
          </p:nvSpPr>
          <p:spPr>
            <a:xfrm>
              <a:off x="4138560" y="1438200"/>
              <a:ext cx="1066680" cy="304920"/>
            </a:xfrm>
            <a:prstGeom prst="rect">
              <a:avLst/>
            </a:prstGeom>
            <a:solidFill>
              <a:srgbClr val="ffffff"/>
            </a:solidFill>
            <a:ln cap="rnd" w="936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Cut Switchin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00c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4600440" y="1757520"/>
              <a:ext cx="152640" cy="152280"/>
            </a:xfrm>
            <a:custGeom>
              <a:avLst/>
              <a:gdLst>
                <a:gd name="textAreaLeft" fmla="*/ 0 w 152640"/>
                <a:gd name="textAreaRight" fmla="*/ 153000 w 15264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300" y="6500"/>
                  </a:lnTo>
                  <a:lnTo>
                    <a:pt x="4300" y="8600"/>
                  </a:lnTo>
                  <a:lnTo>
                    <a:pt x="8600" y="8600"/>
                  </a:lnTo>
                  <a:lnTo>
                    <a:pt x="8600" y="4300"/>
                  </a:lnTo>
                  <a:lnTo>
                    <a:pt x="6500" y="4300"/>
                  </a:lnTo>
                  <a:lnTo>
                    <a:pt x="10800" y="0"/>
                  </a:lnTo>
                  <a:lnTo>
                    <a:pt x="15100" y="4300"/>
                  </a:lnTo>
                  <a:lnTo>
                    <a:pt x="13000" y="4300"/>
                  </a:lnTo>
                  <a:lnTo>
                    <a:pt x="13000" y="8600"/>
                  </a:lnTo>
                  <a:lnTo>
                    <a:pt x="17300" y="8600"/>
                  </a:lnTo>
                  <a:lnTo>
                    <a:pt x="17300" y="6500"/>
                  </a:lnTo>
                  <a:lnTo>
                    <a:pt x="21600" y="10800"/>
                  </a:lnTo>
                  <a:lnTo>
                    <a:pt x="17300" y="15100"/>
                  </a:lnTo>
                  <a:lnTo>
                    <a:pt x="17300" y="13000"/>
                  </a:lnTo>
                  <a:lnTo>
                    <a:pt x="13000" y="13000"/>
                  </a:lnTo>
                  <a:lnTo>
                    <a:pt x="13000" y="17300"/>
                  </a:lnTo>
                  <a:lnTo>
                    <a:pt x="15100" y="17300"/>
                  </a:lnTo>
                  <a:lnTo>
                    <a:pt x="10800" y="21600"/>
                  </a:lnTo>
                  <a:lnTo>
                    <a:pt x="6500" y="17300"/>
                  </a:lnTo>
                  <a:lnTo>
                    <a:pt x="8600" y="17300"/>
                  </a:lnTo>
                  <a:lnTo>
                    <a:pt x="8600" y="13000"/>
                  </a:lnTo>
                  <a:lnTo>
                    <a:pt x="4300" y="13000"/>
                  </a:lnTo>
                  <a:lnTo>
                    <a:pt x="4300" y="151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1" name=""/>
          <p:cNvSpPr/>
          <p:nvPr/>
        </p:nvSpPr>
        <p:spPr>
          <a:xfrm>
            <a:off x="8502480" y="6458040"/>
            <a:ext cx="6098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E2C57-8AD5-4E19-9AA4-D87245F5F89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돋움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E737F4-486F-4EA3-B3F3-D0DB04B610B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520" y="378000"/>
            <a:ext cx="853452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How to use Trace</a:t>
            </a:r>
            <a:endParaRPr b="1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4343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00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굴림"/>
              </a:rPr>
              <a:t>Connection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000000"/>
              </a:buClr>
              <a:buFont typeface="Symbol"/>
              <a:buChar char="¨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굴림"/>
              </a:rPr>
              <a:t>RS232C Cabl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10000"/>
              </a:lnSpc>
              <a:spcBef>
                <a:spcPts val="400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굴림"/>
              </a:rPr>
              <a:t>Terminal Emulator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000000"/>
              </a:buClr>
              <a:buFont typeface="Symbol"/>
              <a:buChar char="¨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굴림"/>
              </a:rPr>
              <a:t>Hyper Termina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굴림"/>
              </a:rPr>
              <a:t>Supported in Windows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10000"/>
              </a:lnSpc>
              <a:spcBef>
                <a:spcPts val="400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굴림"/>
              </a:rPr>
              <a:t>Login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000000"/>
              </a:buClr>
              <a:buFont typeface="Symbol"/>
              <a:buChar char="¨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굴림"/>
              </a:rPr>
              <a:t>cs100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000000"/>
              </a:buClr>
              <a:buFont typeface="Symbol"/>
              <a:buChar char="¨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굴림"/>
              </a:rPr>
              <a:t>super-a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3657600" y="1371600"/>
            <a:ext cx="5200560" cy="4095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B4161F-F8B6-46E0-B051-84039F007E0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520" y="378000"/>
            <a:ext cx="853452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Trace Message Sample</a:t>
            </a:r>
            <a:endParaRPr b="1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28240" y="1218960"/>
            <a:ext cx="4343400" cy="5181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0" algn="just">
              <a:lnSpc>
                <a:spcPct val="110000"/>
              </a:lnSpc>
              <a:spcBef>
                <a:spcPts val="2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바탕체"/>
                <a:ea typeface="바탕체"/>
              </a:rPr>
              <a:t>CALL_MON&gt;tl a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 marL="339480" indent="0" algn="just">
              <a:lnSpc>
                <a:spcPct val="110000"/>
              </a:lnSpc>
              <a:spcBef>
                <a:spcPts val="2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바탕체"/>
                <a:ea typeface="바탕체"/>
              </a:rPr>
              <a:t>CALL_MON&gt;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 marL="339480" indent="0" algn="just">
              <a:lnSpc>
                <a:spcPct val="110000"/>
              </a:lnSpc>
              <a:spcBef>
                <a:spcPts val="2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바탕체"/>
                <a:ea typeface="바탕체"/>
              </a:rPr>
              <a:t>E0c0 &lt;AE-&gt;CA&gt; [01][22] EVT:OffHook.... [00/00] 00 00 00 00 00 00 00 00 00 00 15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 marL="339480" indent="0" algn="just">
              <a:lnSpc>
                <a:spcPct val="110000"/>
              </a:lnSpc>
              <a:spcBef>
                <a:spcPts val="2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바탕체"/>
                <a:ea typeface="바탕체"/>
              </a:rPr>
              <a:t>E001 &lt;SW-&gt;SW&gt; [bb][01] Make Switching. [ff/ff]    00c0 &lt;-- 0001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 marL="339480" indent="0" algn="just">
              <a:lnSpc>
                <a:spcPct val="110000"/>
              </a:lnSpc>
              <a:spcBef>
                <a:spcPts val="2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바탕체"/>
                <a:ea typeface="바탕체"/>
              </a:rPr>
              <a:t>E0c0 &lt;CA-&gt;TM&gt; [00][81] Start Tone Lock [00/00] 00 ff ff ff ff ff ff ff ff ff ff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 marL="339480" indent="0" algn="just">
              <a:lnSpc>
                <a:spcPct val="110000"/>
              </a:lnSpc>
              <a:spcBef>
                <a:spcPts val="2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바탕체"/>
                <a:ea typeface="바탕체"/>
              </a:rPr>
              <a:t>E0c0 &lt;CA-&gt;AE&gt; [01][94] CMD:StartRcvDgt [00/00] ff ff ff ff ff ff ff ff ff ff ad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 marL="339480" indent="0" algn="just">
              <a:lnSpc>
                <a:spcPct val="110000"/>
              </a:lnSpc>
              <a:spcBef>
                <a:spcPts val="2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바탕체"/>
                <a:ea typeface="바탕체"/>
              </a:rPr>
              <a:t>E0c0 &lt;CA-&gt;MF&gt; [02][95] CMD:DTMF AsnReq [00/00] 00 01 ff ff ff ff ff ff ff ff ff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 marL="339480" indent="0" algn="just">
              <a:lnSpc>
                <a:spcPct val="110000"/>
              </a:lnSpc>
              <a:spcBef>
                <a:spcPts val="2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바탕체"/>
                <a:ea typeface="바탕체"/>
              </a:rPr>
              <a:t>E0c0 &lt;SW-&gt;SW&gt; [bb][01] Make Switching. [00/00]    0001 &lt;-- 00c0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 marL="339480" indent="0" algn="just">
              <a:lnSpc>
                <a:spcPct val="110000"/>
              </a:lnSpc>
              <a:spcBef>
                <a:spcPts val="2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바탕체"/>
                <a:ea typeface="바탕체"/>
              </a:rPr>
              <a:t>CALL_MON&gt;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 marL="339480" indent="0" algn="just">
              <a:lnSpc>
                <a:spcPct val="110000"/>
              </a:lnSpc>
              <a:spcBef>
                <a:spcPts val="2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바탕체"/>
                <a:ea typeface="바탕체"/>
              </a:rPr>
              <a:t>E0c0 &lt;MF-&gt;CA&gt; [02][23] EVT:StartDial.. [02/00] 00 00 00 00 00 00 00 00 00 00 00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 marL="339480" indent="0" algn="just">
              <a:lnSpc>
                <a:spcPct val="110000"/>
              </a:lnSpc>
              <a:spcBef>
                <a:spcPts val="2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바탕체"/>
                <a:ea typeface="바탕체"/>
              </a:rPr>
              <a:t>E0c0 &lt;CA-&gt;AE&gt; [01][95] CMD:StopRcvDgt. [02/00] ff ff ff ff ff ff ff ff ff ff ac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 marL="339480" indent="0" algn="just">
              <a:lnSpc>
                <a:spcPct val="110000"/>
              </a:lnSpc>
              <a:spcBef>
                <a:spcPts val="2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바탕체"/>
                <a:ea typeface="바탕체"/>
              </a:rPr>
              <a:t>E0c0 &lt;SW-&gt;SW&gt; [bb][00] Cut Switching.. [02/00]    00c0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 marL="339480" indent="0" algn="just">
              <a:lnSpc>
                <a:spcPct val="110000"/>
              </a:lnSpc>
              <a:spcBef>
                <a:spcPts val="2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바탕체"/>
                <a:ea typeface="바탕체"/>
              </a:rPr>
              <a:t>E0c0 &lt;CA-&gt;TM&gt; [00][82] Stop Tone Lock. [02/00] ff ff ff ff ff ff ff ff ff ff ff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 marL="339480" indent="0" algn="just">
              <a:lnSpc>
                <a:spcPct val="110000"/>
              </a:lnSpc>
              <a:spcBef>
                <a:spcPts val="2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바탕체"/>
                <a:ea typeface="바탕체"/>
              </a:rPr>
              <a:t>E0c0 &lt;CA-&gt;TM&gt; [00][83] Start Dgt Lock. [02/00] 0d 01 2c ff ff ff ff ff ff ff ff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 marL="339480" indent="0" algn="just">
              <a:lnSpc>
                <a:spcPct val="110000"/>
              </a:lnSpc>
              <a:spcBef>
                <a:spcPts val="2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바탕체"/>
                <a:ea typeface="바탕체"/>
              </a:rPr>
              <a:t>E0c0 &lt;MF-&gt;CA&gt; [02][24] EVT:RcvDigit... [02/00] 01 00 00 00 00 00 00 00 00 00 19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 marL="339480" indent="0" algn="just">
              <a:lnSpc>
                <a:spcPct val="110000"/>
              </a:lnSpc>
              <a:spcBef>
                <a:spcPts val="2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바탕체"/>
                <a:ea typeface="바탕체"/>
              </a:rPr>
              <a:t>E0c0 &lt;MF-&gt;CA&gt; [02][24] EVT:RcvDigit... [02/00] 0a 00 00 00 00 00 00 00 00 00 10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 marL="339480" indent="0" algn="just">
              <a:lnSpc>
                <a:spcPct val="110000"/>
              </a:lnSpc>
              <a:spcBef>
                <a:spcPts val="2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바탕체"/>
                <a:ea typeface="바탕체"/>
              </a:rPr>
              <a:t>E0c0 &lt;MF-&gt;CA&gt; [02][24] EVT:RcvDigit... [02/00] 0a 00 00 00 00 00 00 00 00 00 10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 marL="339480" indent="0" algn="just">
              <a:lnSpc>
                <a:spcPct val="110000"/>
              </a:lnSpc>
              <a:spcBef>
                <a:spcPts val="2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바탕체"/>
                <a:ea typeface="바탕체"/>
              </a:rPr>
              <a:t>E0c0 &lt;MF-&gt;CA&gt; [02][24] EVT:RcvDigit... [02/00] 04 00 00 00 00 00 00 00 00 00 16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 marL="339480" indent="0" algn="just">
              <a:lnSpc>
                <a:spcPct val="110000"/>
              </a:lnSpc>
              <a:spcBef>
                <a:spcPts val="2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바탕체"/>
                <a:ea typeface="바탕체"/>
              </a:rPr>
              <a:t>E0c0 &lt;CA-&gt;AE&gt; [01][95] CMD:StopRcvDgt. [02/00] ff ff ff ff ff ff ff ff ff ff ac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 marL="339480" indent="0" algn="just">
              <a:lnSpc>
                <a:spcPct val="110000"/>
              </a:lnSpc>
              <a:spcBef>
                <a:spcPts val="2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바탕체"/>
                <a:ea typeface="바탕체"/>
              </a:rPr>
              <a:t>E0c0 &lt;CA-&gt;MF&gt; [02][96] CMD:DTMF RlsReq [02/00] 00 01 ff ff ff ff ff ff ff ff ff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 marL="339480" indent="0" algn="just">
              <a:lnSpc>
                <a:spcPct val="110000"/>
              </a:lnSpc>
              <a:spcBef>
                <a:spcPts val="2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바탕체"/>
                <a:ea typeface="바탕체"/>
              </a:rPr>
              <a:t>E001 &lt;SW-&gt;SW&gt; [bb][00] Cut Switching.. [ff/ff]    0001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 marL="339480" indent="0" algn="just">
              <a:lnSpc>
                <a:spcPct val="110000"/>
              </a:lnSpc>
              <a:spcBef>
                <a:spcPts val="2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바탕체"/>
                <a:ea typeface="바탕체"/>
              </a:rPr>
              <a:t>E0c0 &lt;CA-&gt;TM&gt; [00][84] Stop Dgt Lock.. [02/00] ff ff ff ff ff ff ff ff ff ff ff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 marL="339480" indent="0" algn="just">
              <a:lnSpc>
                <a:spcPct val="110000"/>
              </a:lnSpc>
              <a:spcBef>
                <a:spcPts val="2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바탕체"/>
                <a:ea typeface="바탕체"/>
              </a:rPr>
              <a:t>E005 &lt;SW-&gt;SW&gt; [bb][01] Make Switching. [ff/ff]    00c0 &lt;-- 0005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 marL="339480" indent="0" algn="just">
              <a:lnSpc>
                <a:spcPct val="110000"/>
              </a:lnSpc>
              <a:spcBef>
                <a:spcPts val="2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바탕체"/>
                <a:ea typeface="바탕체"/>
              </a:rPr>
              <a:t>E0c0 &lt;CA-&gt;TM&gt; [00][81] Start Tone Lock [02/00] 09 ff ff ff ff ff ff ff ff ff ff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 marL="339480" indent="0" algn="just">
              <a:lnSpc>
                <a:spcPct val="110000"/>
              </a:lnSpc>
              <a:spcBef>
                <a:spcPts val="2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바탕체"/>
                <a:ea typeface="바탕체"/>
              </a:rPr>
              <a:t>E0c0 &lt;CA-&gt;TM&gt; [00][81] Start Tone Lock [02/00] 09 ff ff ff ff ff ff ff ff ff ff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 marL="339480" indent="0" algn="just">
              <a:lnSpc>
                <a:spcPct val="110000"/>
              </a:lnSpc>
              <a:spcBef>
                <a:spcPts val="2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바탕체"/>
                <a:ea typeface="바탕체"/>
              </a:rPr>
              <a:t>E0c4 &lt;CA-&gt;CA&gt; [00][06] Give Ring...... [00/00] 00 00 00 c4 00 00 00 00 00 00 c0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 marL="339480" indent="0" algn="just">
              <a:lnSpc>
                <a:spcPct val="110000"/>
              </a:lnSpc>
              <a:spcBef>
                <a:spcPts val="2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바탕체"/>
                <a:ea typeface="바탕체"/>
              </a:rPr>
              <a:t>E0c4 &lt;CA-&gt;TM&gt; [00][87] Start Ring Lock [04/00] 00 ff ff ff ff ff ff ff ff ff ff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 marL="339480" indent="0" algn="just">
              <a:lnSpc>
                <a:spcPct val="110000"/>
              </a:lnSpc>
              <a:spcBef>
                <a:spcPts val="2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바탕체"/>
                <a:ea typeface="바탕체"/>
              </a:rPr>
              <a:t>E0c4 &lt;CA-&gt;AE&gt; [01][91] CMD:SendRing... [04/00] 0c 0a 28 0a 28 0a 28 0a 28 00 ce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 marL="339480" indent="0" algn="just">
              <a:lnSpc>
                <a:spcPct val="110000"/>
              </a:lnSpc>
              <a:spcBef>
                <a:spcPts val="2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바탕체"/>
                <a:ea typeface="바탕체"/>
              </a:rPr>
              <a:t>E0c0 &lt;CA-&gt;TM&gt; [00][90] TONLock TimeOut [05/00] 09 09 a8 01 44 3e b8 01 44 2e c0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 marL="339480" indent="0" algn="just">
              <a:lnSpc>
                <a:spcPct val="110000"/>
              </a:lnSpc>
              <a:spcBef>
                <a:spcPts val="2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바탕체"/>
                <a:ea typeface="바탕체"/>
              </a:rPr>
              <a:t>E004 &lt;SW-&gt;SW&gt; [bb][01] Make Switching. [ff/ff]    00c0 &lt;-- 0004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 marL="339480" indent="0" algn="just">
              <a:lnSpc>
                <a:spcPct val="110000"/>
              </a:lnSpc>
              <a:spcBef>
                <a:spcPts val="2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바탕체"/>
                <a:ea typeface="바탕체"/>
              </a:rPr>
              <a:t>E0c0 &lt;CA-&gt;TM&gt; [00][81] Start Tone Lock [05/00] 0b ff ff ff ff ff ff ff ff ff ff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 marL="339480" indent="0" algn="just">
              <a:lnSpc>
                <a:spcPct val="110000"/>
              </a:lnSpc>
              <a:spcBef>
                <a:spcPts val="2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바탕체"/>
                <a:ea typeface="바탕체"/>
              </a:rPr>
              <a:t>Efff &lt;CA-&gt;DE&gt; [0b][aa] Init Time/Date. [ff/ff] 01 04 12 10 1a 1c 03 ff ff ff a5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"/>
          <p:cNvSpPr/>
          <p:nvPr/>
        </p:nvSpPr>
        <p:spPr>
          <a:xfrm>
            <a:off x="4572000" y="1523880"/>
            <a:ext cx="4343400" cy="4953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바탕체"/>
                <a:ea typeface="바탕체"/>
              </a:rPr>
              <a:t>CALL_MON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바탕체"/>
                <a:ea typeface="바탕체"/>
              </a:rPr>
              <a:t>E0c4 &lt;AE-&gt;CA&gt; [01][22] EVT:OffHook.... [04/00] 00 00 00 00 00 00 00 00 00 00 1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바탕체"/>
                <a:ea typeface="바탕체"/>
              </a:rPr>
              <a:t>E0c4 &lt;CA-&gt;AE&gt; [01][92] CMD:StopRing... [04/00] ff ff ff ff ff ff ff ff ff ff a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바탕체"/>
                <a:ea typeface="바탕체"/>
              </a:rPr>
              <a:t>E0c4 &lt;CA-&gt;TM&gt; [00][88] Stop Ring Lock. [04/00] ff ff ff ff ff ff ff ff ff ff f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바탕체"/>
                <a:ea typeface="바탕체"/>
              </a:rPr>
              <a:t>E0c4 &lt;CA-&gt;AE&gt; [01][94] CMD:StartRcvDgt [06/00] ff ff ff ff ff ff ff ff ff ff a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바탕체"/>
                <a:ea typeface="바탕체"/>
              </a:rPr>
              <a:t>E0c0 &lt;CA-&gt;CA&gt; [00][02] Line Answer.... [05/00] 00 00 00 00 00 00 00 00 00 00 c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바탕체"/>
                <a:ea typeface="바탕체"/>
              </a:rPr>
              <a:t>E0c0 &lt;SW-&gt;SW&gt; [bb][00] Cut Switching.. [05/00]    00c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바탕체"/>
                <a:ea typeface="바탕체"/>
              </a:rPr>
              <a:t>E0c0 &lt;CA-&gt;TM&gt; [00][82] Stop Tone Lock. [05/00] ff ff ff ff ff ff ff ff ff ff f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바탕체"/>
                <a:ea typeface="바탕체"/>
              </a:rPr>
              <a:t>E0c4 &lt;SW-&gt;SW&gt; [bb][01] Make Switching. [06/00]    00c0 &lt;-- 00c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바탕체"/>
                <a:ea typeface="바탕체"/>
              </a:rPr>
              <a:t>E0c0 &lt;SW-&gt;SW&gt; [bb][01] Make Switching. [05/00]    00c4 &lt;-- 00c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바탕체"/>
                <a:ea typeface="바탕체"/>
              </a:rPr>
              <a:t>CALL_MON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바탕체"/>
                <a:ea typeface="바탕체"/>
              </a:rPr>
              <a:t>CALL_MON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바탕체"/>
                <a:ea typeface="바탕체"/>
              </a:rPr>
              <a:t>E0c0 &lt;AE-&gt;CA&gt; [01][21] EVT:OnHook..... [06/00] 00 00 00 00 00 00 00 00 00 00 1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바탕체"/>
                <a:ea typeface="바탕체"/>
              </a:rPr>
              <a:t>E0c0 &lt;CA-&gt;AE&gt; [01][95] CMD:StopRcvDgt. [06/00] ff ff ff ff ff ff ff ff ff ff a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바탕체"/>
                <a:ea typeface="바탕체"/>
              </a:rPr>
              <a:t>E0c0 &lt;SW-&gt;SW&gt; [bb][00] Cut Switching.. [06/00]    00c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바탕체"/>
                <a:ea typeface="바탕체"/>
              </a:rPr>
              <a:t>E0c4 &lt;CA-&gt;CA&gt; [00][01] Line Release... [06/00] 90 ff ff 00 00 00 00 00 00 00 c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바탕체"/>
                <a:ea typeface="바탕체"/>
              </a:rPr>
              <a:t>E0c4 &lt;SW-&gt;SW&gt; [bb][00] Cut Switching.. [06/00]    00c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바탕체"/>
                <a:ea typeface="바탕체"/>
              </a:rPr>
              <a:t>E002 &lt;SW-&gt;SW&gt; [bb][01] Make Switching. [ff/ff]    00c4 &lt;-- 000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바탕체"/>
                <a:ea typeface="바탕체"/>
              </a:rPr>
              <a:t>E0c4 &lt;CA-&gt;TM&gt; [00][81] Start Tone Lock [06/00] 33 ff ff ff ff ff ff ff ff ff f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바탕체"/>
                <a:ea typeface="바탕체"/>
              </a:rPr>
              <a:t>E0c4 &lt;CA-&gt;AE&gt; [01][95] CMD:StopRcvDgt. [06/00] ff ff ff ff ff ff ff ff ff ff a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바탕체"/>
                <a:ea typeface="바탕체"/>
              </a:rPr>
              <a:t>CALL_MON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바탕체"/>
                <a:ea typeface="바탕체"/>
              </a:rPr>
              <a:t>E0c4 &lt;AE-&gt;CA&gt; [01][21] EVT:OnHook..... [01/00] 00 00 00 00 00 00 00 00 00 00 1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바탕체"/>
                <a:ea typeface="바탕체"/>
              </a:rPr>
              <a:t>E0c4 &lt;SW-&gt;SW&gt; [bb][00] Cut Switching.. [01/00]    00c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바탕체"/>
                <a:ea typeface="바탕체"/>
              </a:rPr>
              <a:t>E0c4 &lt;CA-&gt;TM&gt; [00][82] Stop Tone Lock. [01/00] ff ff ff ff ff ff ff ff ff ff f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바탕체"/>
                <a:ea typeface="바탕체"/>
              </a:rPr>
              <a:t>E0c4 &lt;CA-&gt;AE&gt; [01][95] CMD:StopRcvDgt. [01/00] ff ff ff ff ff ff ff ff ff ff a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바탕체"/>
                <a:ea typeface="바탕체"/>
              </a:rPr>
              <a:t>E0c4 &lt;SW-&gt;SW&gt; [bb][00] Cut Switching.. [01/00]    00c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바탕체"/>
                <a:ea typeface="바탕체"/>
              </a:rPr>
              <a:t>CALL_MON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B835C5-D99D-44DB-9DD8-9D70CDEA3DE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520" y="378000"/>
            <a:ext cx="853452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Trace Message Format </a:t>
            </a:r>
            <a:endParaRPr b="1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28600" y="2176560"/>
            <a:ext cx="8686800" cy="42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110000"/>
              </a:lnSpc>
              <a:spcBef>
                <a:spcPts val="400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굴림"/>
                <a:ea typeface="굴림체"/>
              </a:rPr>
              <a:t>E      : Extension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000000"/>
              </a:buClr>
              <a:buFont typeface="Symbol"/>
              <a:buChar char="¨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굴림"/>
              </a:rPr>
              <a:t>P : PRI Digital Trunk / I_IUTC_TERM BRI Trunk / QSIG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000000"/>
              </a:buClr>
              <a:buFont typeface="Symbol"/>
              <a:buChar char="¨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굴림"/>
              </a:rPr>
              <a:t>B : BRI Station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000000"/>
              </a:buClr>
              <a:buFont typeface="Symbol"/>
              <a:buChar char="¨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굴림"/>
              </a:rPr>
              <a:t>E : Extension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000000"/>
              </a:buClr>
              <a:buFont typeface="Symbol"/>
              <a:buChar char="¨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굴림"/>
              </a:rPr>
              <a:t>T : Trunk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0" algn="just">
              <a:lnSpc>
                <a:spcPct val="110000"/>
              </a:lnSpc>
              <a:spcBef>
                <a:spcPts val="4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 algn="just">
              <a:lnSpc>
                <a:spcPct val="110000"/>
              </a:lnSpc>
              <a:spcBef>
                <a:spcPts val="400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굴림"/>
                <a:ea typeface="굴림체"/>
              </a:rPr>
              <a:t>0c0  : Port Number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"/>
          <p:cNvSpPr/>
          <p:nvPr/>
        </p:nvSpPr>
        <p:spPr>
          <a:xfrm>
            <a:off x="1004040" y="1627200"/>
            <a:ext cx="6908760" cy="328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3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  <a:ea typeface="굴림체"/>
              </a:rPr>
              <a:t>E0c0 &lt;AE-&gt;CA&gt; [01][22] EVT:OffHook.... [00/00] 00 00 00 00 00 00 00 00 00 00 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57200" y="1638360"/>
            <a:ext cx="380880" cy="304920"/>
          </a:xfrm>
          <a:prstGeom prst="ellipse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42920" y="1628640"/>
            <a:ext cx="304920" cy="304920"/>
          </a:xfrm>
          <a:prstGeom prst="ellipse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07DB86-1DB6-4C26-B142-1CD779149CA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378000"/>
            <a:ext cx="853452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Trace Message</a:t>
            </a:r>
            <a:endParaRPr b="1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838080" y="3009960"/>
          <a:ext cx="6096240" cy="2400120"/>
        </p:xfrm>
        <a:graphic>
          <a:graphicData uri="http://schemas.openxmlformats.org/drawingml/2006/table">
            <a:tbl>
              <a:tblPr/>
              <a:tblGrid>
                <a:gridCol w="3048120"/>
                <a:gridCol w="3048120"/>
              </a:tblGrid>
              <a:tr h="344880">
                <a:tc>
                  <a:txBody>
                    <a:bodyPr lIns="93600" rIns="936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굴림"/>
                          <a:ea typeface="굴림체"/>
                        </a:rPr>
                        <a:t>A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0" marR="936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0" rIns="936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ASLC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0" marR="936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880">
                <a:tc>
                  <a:txBody>
                    <a:bodyPr lIns="93600" rIns="936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C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0" marR="936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0" rIns="936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CALL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0" marR="936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880">
                <a:tc>
                  <a:txBody>
                    <a:bodyPr lIns="93600" rIns="936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TM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0" marR="936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0" rIns="936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TIMER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0" marR="936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880">
                <a:tc>
                  <a:txBody>
                    <a:bodyPr lIns="93600" rIns="936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SW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0" marR="936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0" rIns="936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SWITCH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0" marR="936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880">
                <a:tc>
                  <a:txBody>
                    <a:bodyPr lIns="93600" rIns="936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D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0" marR="936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0" rIns="936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DSLC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0" marR="936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880">
                <a:tc>
                  <a:txBody>
                    <a:bodyPr lIns="93600" rIns="936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MF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0" marR="936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0" rIns="936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DTMF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0" marR="936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880">
                <a:tc>
                  <a:txBody>
                    <a:bodyPr lIns="93600" rIns="936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BR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0" marR="936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0" rIns="936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BROADCAS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0" marR="936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2127240"/>
            <a:ext cx="8686800" cy="47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110000"/>
              </a:lnSpc>
              <a:spcBef>
                <a:spcPts val="400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굴림"/>
                <a:ea typeface="굴림체"/>
              </a:rPr>
              <a:t>AE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굴림"/>
                <a:ea typeface="굴림체"/>
              </a:rPr>
              <a:t> CA  : SLT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굴림"/>
                <a:ea typeface="굴림체"/>
              </a:rPr>
              <a:t> Cal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"/>
          <p:cNvSpPr/>
          <p:nvPr/>
        </p:nvSpPr>
        <p:spPr>
          <a:xfrm>
            <a:off x="1150200" y="1627200"/>
            <a:ext cx="6908760" cy="328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3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  <a:ea typeface="굴림체"/>
              </a:rPr>
              <a:t>E0c0 &lt;AE-&gt;CA&gt; [01][22] EVT:OffHook.... [00/00] 00 00 00 00 00 00 00 00 00 00 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990720" y="1600200"/>
            <a:ext cx="838080" cy="380880"/>
          </a:xfrm>
          <a:prstGeom prst="ellipse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6AC75D-A2FE-478C-B1EA-EF885B2A7D3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520" y="378000"/>
            <a:ext cx="853452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Trace Message</a:t>
            </a:r>
            <a:endParaRPr b="1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"/>
          <p:cNvSpPr/>
          <p:nvPr/>
        </p:nvSpPr>
        <p:spPr>
          <a:xfrm>
            <a:off x="1150200" y="1341360"/>
            <a:ext cx="6908760" cy="328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3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  <a:ea typeface="굴림체"/>
              </a:rPr>
              <a:t>E0c0 &lt;AE-&gt;CA&gt; [01][22] EVT:OffHook.... [00/00] 00 00 00 00 00 00 00 00 00 00 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828800" y="1295280"/>
            <a:ext cx="914400" cy="381240"/>
          </a:xfrm>
          <a:prstGeom prst="ellipse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80880" y="1905120"/>
            <a:ext cx="182880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체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굴림"/>
                <a:ea typeface="굴림체"/>
              </a:rPr>
              <a:t>Device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굴림"/>
                <a:ea typeface="굴림체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굴림"/>
                <a:ea typeface="굴림체"/>
              </a:rPr>
              <a:t>&amp; 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2666880" y="1790640"/>
            <a:ext cx="6172200" cy="4648320"/>
            <a:chOff x="2666880" y="1790640"/>
            <a:chExt cx="6172200" cy="4648320"/>
          </a:xfrm>
        </p:grpSpPr>
        <p:grpSp>
          <p:nvGrpSpPr>
            <p:cNvPr id="113" name=""/>
            <p:cNvGrpSpPr/>
            <p:nvPr/>
          </p:nvGrpSpPr>
          <p:grpSpPr>
            <a:xfrm>
              <a:off x="2669760" y="1791360"/>
              <a:ext cx="6165720" cy="4646160"/>
              <a:chOff x="2669760" y="1791360"/>
              <a:chExt cx="6165720" cy="4646160"/>
            </a:xfrm>
          </p:grpSpPr>
          <p:grpSp>
            <p:nvGrpSpPr>
              <p:cNvPr id="114" name=""/>
              <p:cNvGrpSpPr/>
              <p:nvPr/>
            </p:nvGrpSpPr>
            <p:grpSpPr>
              <a:xfrm>
                <a:off x="2669760" y="1791360"/>
                <a:ext cx="1334880" cy="189720"/>
                <a:chOff x="2669760" y="1791360"/>
                <a:chExt cx="1334880" cy="189720"/>
              </a:xfrm>
            </p:grpSpPr>
            <p:sp>
              <p:nvSpPr>
                <p:cNvPr id="115" name=""/>
                <p:cNvSpPr/>
                <p:nvPr/>
              </p:nvSpPr>
              <p:spPr>
                <a:xfrm>
                  <a:off x="2669760" y="1791360"/>
                  <a:ext cx="1334880" cy="189720"/>
                </a:xfrm>
                <a:prstGeom prst="rect">
                  <a:avLst/>
                </a:prstGeom>
                <a:solidFill>
                  <a:srgbClr val="a6a6a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16" name=""/>
                <p:cNvGrpSpPr/>
                <p:nvPr/>
              </p:nvGrpSpPr>
              <p:grpSpPr>
                <a:xfrm>
                  <a:off x="2669760" y="1791360"/>
                  <a:ext cx="1334880" cy="189720"/>
                  <a:chOff x="2669760" y="1791360"/>
                  <a:chExt cx="1334880" cy="189720"/>
                </a:xfrm>
              </p:grpSpPr>
              <p:sp>
                <p:nvSpPr>
                  <p:cNvPr id="117" name=""/>
                  <p:cNvSpPr/>
                  <p:nvPr/>
                </p:nvSpPr>
                <p:spPr>
                  <a:xfrm>
                    <a:off x="2732040" y="1791360"/>
                    <a:ext cx="1209960" cy="189720"/>
                  </a:xfrm>
                  <a:prstGeom prst="rect">
                    <a:avLst/>
                  </a:prstGeom>
                  <a:solidFill>
                    <a:srgbClr val="a6a6a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3600" rIns="936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762120"/>
                        <a:tab algn="l" pos="1523880"/>
                        <a:tab algn="l" pos="2286000"/>
                        <a:tab algn="l" pos="3048120"/>
                        <a:tab algn="l" pos="3809880"/>
                        <a:tab algn="l" pos="4572000"/>
                        <a:tab algn="l" pos="5334120"/>
                        <a:tab algn="l" pos="6095880"/>
                        <a:tab algn="l" pos="6858000"/>
                        <a:tab algn="l" pos="7620120"/>
                        <a:tab algn="l" pos="8381880"/>
                        <a:tab algn="l" pos="9144000"/>
                        <a:tab algn="l" pos="9906120"/>
                        <a:tab algn="l" pos="1066788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Times New Roman"/>
                        <a:ea typeface="바탕"/>
                      </a:rPr>
                      <a:t>Device Type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" name=""/>
                  <p:cNvSpPr/>
                  <p:nvPr/>
                </p:nvSpPr>
                <p:spPr>
                  <a:xfrm>
                    <a:off x="2669760" y="1791360"/>
                    <a:ext cx="1334880" cy="1897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3600" rIns="936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19" name=""/>
              <p:cNvGrpSpPr/>
              <p:nvPr/>
            </p:nvGrpSpPr>
            <p:grpSpPr>
              <a:xfrm>
                <a:off x="4004640" y="1791360"/>
                <a:ext cx="1001160" cy="189720"/>
                <a:chOff x="4004640" y="1791360"/>
                <a:chExt cx="1001160" cy="189720"/>
              </a:xfrm>
            </p:grpSpPr>
            <p:sp>
              <p:nvSpPr>
                <p:cNvPr id="120" name=""/>
                <p:cNvSpPr/>
                <p:nvPr/>
              </p:nvSpPr>
              <p:spPr>
                <a:xfrm>
                  <a:off x="4004640" y="1791360"/>
                  <a:ext cx="1001160" cy="189720"/>
                </a:xfrm>
                <a:prstGeom prst="rect">
                  <a:avLst/>
                </a:prstGeom>
                <a:solidFill>
                  <a:srgbClr val="a6a6a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1" name=""/>
                <p:cNvGrpSpPr/>
                <p:nvPr/>
              </p:nvGrpSpPr>
              <p:grpSpPr>
                <a:xfrm>
                  <a:off x="4004640" y="1791360"/>
                  <a:ext cx="1001160" cy="189720"/>
                  <a:chOff x="4004640" y="1791360"/>
                  <a:chExt cx="1001160" cy="18972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4067280" y="1791360"/>
                    <a:ext cx="875880" cy="189720"/>
                  </a:xfrm>
                  <a:prstGeom prst="rect">
                    <a:avLst/>
                  </a:prstGeom>
                  <a:solidFill>
                    <a:srgbClr val="a6a6a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3600" rIns="93600" tIns="46800" bIns="0" anchor="t">
                    <a:noAutofit/>
                  </a:bodyPr>
                  <a:p>
                    <a:pPr algn="ctr">
                      <a:tabLst>
                        <a:tab algn="l" pos="0"/>
                        <a:tab algn="l" pos="762120"/>
                        <a:tab algn="l" pos="1523880"/>
                        <a:tab algn="l" pos="2286000"/>
                        <a:tab algn="l" pos="3048120"/>
                        <a:tab algn="l" pos="3809880"/>
                        <a:tab algn="l" pos="4572000"/>
                        <a:tab algn="l" pos="5334120"/>
                        <a:tab algn="l" pos="6095880"/>
                        <a:tab algn="l" pos="6858000"/>
                        <a:tab algn="l" pos="7620120"/>
                        <a:tab algn="l" pos="8381880"/>
                        <a:tab algn="l" pos="9144000"/>
                        <a:tab algn="l" pos="9906120"/>
                        <a:tab algn="l" pos="1066788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Times New Roman"/>
                        <a:ea typeface="바탕"/>
                      </a:rPr>
                      <a:t>ID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4004640" y="1791360"/>
                    <a:ext cx="1001160" cy="1897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3600" rIns="936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24" name=""/>
              <p:cNvGrpSpPr/>
              <p:nvPr/>
            </p:nvGrpSpPr>
            <p:grpSpPr>
              <a:xfrm>
                <a:off x="5006160" y="1791360"/>
                <a:ext cx="3829320" cy="189720"/>
                <a:chOff x="5006160" y="1791360"/>
                <a:chExt cx="3829320" cy="18972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5006160" y="1791360"/>
                  <a:ext cx="3829320" cy="189720"/>
                </a:xfrm>
                <a:prstGeom prst="rect">
                  <a:avLst/>
                </a:prstGeom>
                <a:solidFill>
                  <a:srgbClr val="a6a6a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6" name=""/>
                <p:cNvGrpSpPr/>
                <p:nvPr/>
              </p:nvGrpSpPr>
              <p:grpSpPr>
                <a:xfrm>
                  <a:off x="5006160" y="1791360"/>
                  <a:ext cx="3829320" cy="189720"/>
                  <a:chOff x="5006160" y="1791360"/>
                  <a:chExt cx="3829320" cy="189720"/>
                </a:xfrm>
              </p:grpSpPr>
              <p:sp>
                <p:nvSpPr>
                  <p:cNvPr id="127" name=""/>
                  <p:cNvSpPr/>
                  <p:nvPr/>
                </p:nvSpPr>
                <p:spPr>
                  <a:xfrm>
                    <a:off x="5068440" y="1791360"/>
                    <a:ext cx="3704040" cy="189720"/>
                  </a:xfrm>
                  <a:prstGeom prst="rect">
                    <a:avLst/>
                  </a:prstGeom>
                  <a:solidFill>
                    <a:srgbClr val="a6a6a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3600" rIns="936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762120"/>
                        <a:tab algn="l" pos="1523880"/>
                        <a:tab algn="l" pos="2286000"/>
                        <a:tab algn="l" pos="3048120"/>
                        <a:tab algn="l" pos="3809880"/>
                        <a:tab algn="l" pos="4572000"/>
                        <a:tab algn="l" pos="5334120"/>
                        <a:tab algn="l" pos="6095880"/>
                        <a:tab algn="l" pos="6858000"/>
                        <a:tab algn="l" pos="7620120"/>
                        <a:tab algn="l" pos="8381880"/>
                        <a:tab algn="l" pos="9144000"/>
                        <a:tab algn="l" pos="9906120"/>
                        <a:tab algn="l" pos="10667880"/>
                      </a:tabLst>
                    </a:pPr>
                    <a:r>
                      <a:rPr b="1" lang="zh-CN" sz="1000" spc="-1" strike="noStrike">
                        <a:solidFill>
                          <a:srgbClr val="000000"/>
                        </a:solidFill>
                        <a:latin typeface="Times New Roman"/>
                        <a:ea typeface="바탕"/>
                      </a:rPr>
                      <a:t>설명 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8" name=""/>
                  <p:cNvSpPr/>
                  <p:nvPr/>
                </p:nvSpPr>
                <p:spPr>
                  <a:xfrm>
                    <a:off x="5006160" y="1791360"/>
                    <a:ext cx="3829320" cy="1897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3600" rIns="936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29" name=""/>
              <p:cNvGrpSpPr/>
              <p:nvPr/>
            </p:nvGrpSpPr>
            <p:grpSpPr>
              <a:xfrm>
                <a:off x="2669760" y="1981080"/>
                <a:ext cx="1334880" cy="185400"/>
                <a:chOff x="2669760" y="1981080"/>
                <a:chExt cx="1334880" cy="185400"/>
              </a:xfrm>
            </p:grpSpPr>
            <p:sp>
              <p:nvSpPr>
                <p:cNvPr id="130" name=""/>
                <p:cNvSpPr/>
                <p:nvPr/>
              </p:nvSpPr>
              <p:spPr>
                <a:xfrm>
                  <a:off x="2732040" y="1981080"/>
                  <a:ext cx="1209960" cy="18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ctr">
                  <a:noAutofit/>
                </a:bodyPr>
                <a:p>
                  <a:pPr algn="just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바탕"/>
                    </a:rPr>
                    <a:t>DEVID_ASL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2669760" y="1981080"/>
                  <a:ext cx="1334880" cy="185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2" name=""/>
              <p:cNvGrpSpPr/>
              <p:nvPr/>
            </p:nvGrpSpPr>
            <p:grpSpPr>
              <a:xfrm>
                <a:off x="4004640" y="1981080"/>
                <a:ext cx="1001160" cy="185400"/>
                <a:chOff x="4004640" y="1981080"/>
                <a:chExt cx="1001160" cy="18540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4067280" y="1981080"/>
                  <a:ext cx="875880" cy="18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바탕"/>
                    </a:rPr>
                    <a:t>0x01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4004640" y="1981080"/>
                  <a:ext cx="1001160" cy="185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5" name=""/>
              <p:cNvGrpSpPr/>
              <p:nvPr/>
            </p:nvGrpSpPr>
            <p:grpSpPr>
              <a:xfrm>
                <a:off x="5006160" y="1981080"/>
                <a:ext cx="3829320" cy="185400"/>
                <a:chOff x="5006160" y="1981080"/>
                <a:chExt cx="3829320" cy="18540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5068440" y="1981080"/>
                  <a:ext cx="3704040" cy="18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바탕"/>
                    </a:rPr>
                    <a:t>Analogue Subscriber Line Circuit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5006160" y="1981080"/>
                  <a:ext cx="3829320" cy="185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8" name=""/>
              <p:cNvGrpSpPr/>
              <p:nvPr/>
            </p:nvGrpSpPr>
            <p:grpSpPr>
              <a:xfrm>
                <a:off x="2669760" y="2166840"/>
                <a:ext cx="1334880" cy="185760"/>
                <a:chOff x="2669760" y="2166840"/>
                <a:chExt cx="1334880" cy="185760"/>
              </a:xfrm>
            </p:grpSpPr>
            <p:sp>
              <p:nvSpPr>
                <p:cNvPr id="139" name=""/>
                <p:cNvSpPr/>
                <p:nvPr/>
              </p:nvSpPr>
              <p:spPr>
                <a:xfrm>
                  <a:off x="2732040" y="2166840"/>
                  <a:ext cx="1209960" cy="18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바탕"/>
                    </a:rPr>
                    <a:t>DEVID_DTMF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2669760" y="2166840"/>
                  <a:ext cx="1334880" cy="185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1" name=""/>
              <p:cNvGrpSpPr/>
              <p:nvPr/>
            </p:nvGrpSpPr>
            <p:grpSpPr>
              <a:xfrm>
                <a:off x="4004640" y="2166840"/>
                <a:ext cx="1001160" cy="185760"/>
                <a:chOff x="4004640" y="2166840"/>
                <a:chExt cx="1001160" cy="185760"/>
              </a:xfrm>
            </p:grpSpPr>
            <p:sp>
              <p:nvSpPr>
                <p:cNvPr id="142" name=""/>
                <p:cNvSpPr/>
                <p:nvPr/>
              </p:nvSpPr>
              <p:spPr>
                <a:xfrm>
                  <a:off x="4067280" y="2166840"/>
                  <a:ext cx="875880" cy="18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바탕"/>
                    </a:rPr>
                    <a:t>0x02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004640" y="2166840"/>
                  <a:ext cx="1001160" cy="185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5006160" y="2166840"/>
                <a:ext cx="3829320" cy="185760"/>
                <a:chOff x="5006160" y="2166840"/>
                <a:chExt cx="3829320" cy="185760"/>
              </a:xfrm>
            </p:grpSpPr>
            <p:sp>
              <p:nvSpPr>
                <p:cNvPr id="145" name=""/>
                <p:cNvSpPr/>
                <p:nvPr/>
              </p:nvSpPr>
              <p:spPr>
                <a:xfrm>
                  <a:off x="5068440" y="2166840"/>
                  <a:ext cx="3704040" cy="18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바탕"/>
                    </a:rPr>
                    <a:t>DTMF Receiver Circuit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006160" y="2166840"/>
                  <a:ext cx="3829320" cy="185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7" name=""/>
              <p:cNvGrpSpPr/>
              <p:nvPr/>
            </p:nvGrpSpPr>
            <p:grpSpPr>
              <a:xfrm>
                <a:off x="2669760" y="2352600"/>
                <a:ext cx="1334880" cy="185400"/>
                <a:chOff x="2669760" y="2352600"/>
                <a:chExt cx="1334880" cy="185400"/>
              </a:xfrm>
            </p:grpSpPr>
            <p:sp>
              <p:nvSpPr>
                <p:cNvPr id="148" name=""/>
                <p:cNvSpPr/>
                <p:nvPr/>
              </p:nvSpPr>
              <p:spPr>
                <a:xfrm>
                  <a:off x="2732040" y="2352600"/>
                  <a:ext cx="1209960" cy="18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바탕"/>
                    </a:rPr>
                    <a:t>DEVID_WTIC2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2669760" y="2352600"/>
                  <a:ext cx="1334880" cy="185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4004640" y="2352600"/>
                <a:ext cx="1001160" cy="185400"/>
                <a:chOff x="4004640" y="2352600"/>
                <a:chExt cx="1001160" cy="18540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4067280" y="2352600"/>
                  <a:ext cx="875880" cy="18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바탕"/>
                    </a:rPr>
                    <a:t>0x03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4004640" y="2352600"/>
                  <a:ext cx="1001160" cy="185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5006160" y="2352600"/>
                <a:ext cx="3829320" cy="185400"/>
                <a:chOff x="5006160" y="2352600"/>
                <a:chExt cx="3829320" cy="18540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5068440" y="2352600"/>
                  <a:ext cx="3704040" cy="18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바탕"/>
                    </a:rPr>
                    <a:t>WTIC2 Device (DECT 1~64)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5006160" y="2352600"/>
                  <a:ext cx="3829320" cy="185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6" name=""/>
              <p:cNvGrpSpPr/>
              <p:nvPr/>
            </p:nvGrpSpPr>
            <p:grpSpPr>
              <a:xfrm>
                <a:off x="2669760" y="2538360"/>
                <a:ext cx="1334880" cy="185400"/>
                <a:chOff x="2669760" y="2538360"/>
                <a:chExt cx="1334880" cy="18540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2732040" y="2538360"/>
                  <a:ext cx="1209960" cy="18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바탕"/>
                    </a:rPr>
                    <a:t>DEVID_ATD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2669760" y="2538360"/>
                  <a:ext cx="1334880" cy="185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4004640" y="2538360"/>
                <a:ext cx="1001160" cy="185400"/>
                <a:chOff x="4004640" y="2538360"/>
                <a:chExt cx="1001160" cy="18540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4067280" y="2538360"/>
                  <a:ext cx="875880" cy="18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바탕"/>
                    </a:rPr>
                    <a:t>0x04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4004640" y="2538360"/>
                  <a:ext cx="1001160" cy="185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5006160" y="2538360"/>
                <a:ext cx="3829320" cy="185400"/>
                <a:chOff x="5006160" y="2538360"/>
                <a:chExt cx="3829320" cy="18540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5068440" y="2538360"/>
                  <a:ext cx="3704040" cy="18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바탕"/>
                    </a:rPr>
                    <a:t>Attendant Controller Circuit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5006160" y="2538360"/>
                  <a:ext cx="3829320" cy="185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5" name=""/>
              <p:cNvGrpSpPr/>
              <p:nvPr/>
            </p:nvGrpSpPr>
            <p:grpSpPr>
              <a:xfrm>
                <a:off x="2669760" y="2724120"/>
                <a:ext cx="1334880" cy="185760"/>
                <a:chOff x="2669760" y="2724120"/>
                <a:chExt cx="1334880" cy="18576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2732040" y="2724120"/>
                  <a:ext cx="1209960" cy="18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바탕"/>
                    </a:rPr>
                    <a:t>DEVID_RMF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2669760" y="2724120"/>
                  <a:ext cx="1334880" cy="185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8" name=""/>
              <p:cNvGrpSpPr/>
              <p:nvPr/>
            </p:nvGrpSpPr>
            <p:grpSpPr>
              <a:xfrm>
                <a:off x="4004640" y="2724120"/>
                <a:ext cx="1001160" cy="185760"/>
                <a:chOff x="4004640" y="2724120"/>
                <a:chExt cx="1001160" cy="185760"/>
              </a:xfrm>
            </p:grpSpPr>
            <p:sp>
              <p:nvSpPr>
                <p:cNvPr id="169" name=""/>
                <p:cNvSpPr/>
                <p:nvPr/>
              </p:nvSpPr>
              <p:spPr>
                <a:xfrm>
                  <a:off x="4067280" y="2724120"/>
                  <a:ext cx="875880" cy="18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바탕"/>
                    </a:rPr>
                    <a:t>0x08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4004640" y="2724120"/>
                  <a:ext cx="1001160" cy="185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1" name=""/>
              <p:cNvGrpSpPr/>
              <p:nvPr/>
            </p:nvGrpSpPr>
            <p:grpSpPr>
              <a:xfrm>
                <a:off x="5006160" y="2724120"/>
                <a:ext cx="3829320" cy="185760"/>
                <a:chOff x="5006160" y="2724120"/>
                <a:chExt cx="3829320" cy="185760"/>
              </a:xfrm>
            </p:grpSpPr>
            <p:sp>
              <p:nvSpPr>
                <p:cNvPr id="172" name=""/>
                <p:cNvSpPr/>
                <p:nvPr/>
              </p:nvSpPr>
              <p:spPr>
                <a:xfrm>
                  <a:off x="5068440" y="2724120"/>
                  <a:ext cx="3704040" cy="18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바탕"/>
                    </a:rPr>
                    <a:t>R2_MFC Signal (MFRS)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5006160" y="2724120"/>
                  <a:ext cx="3829320" cy="185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4" name=""/>
              <p:cNvGrpSpPr/>
              <p:nvPr/>
            </p:nvGrpSpPr>
            <p:grpSpPr>
              <a:xfrm>
                <a:off x="2669760" y="2909880"/>
                <a:ext cx="1334880" cy="185400"/>
                <a:chOff x="2669760" y="2909880"/>
                <a:chExt cx="1334880" cy="185400"/>
              </a:xfrm>
            </p:grpSpPr>
            <p:sp>
              <p:nvSpPr>
                <p:cNvPr id="175" name=""/>
                <p:cNvSpPr/>
                <p:nvPr/>
              </p:nvSpPr>
              <p:spPr>
                <a:xfrm>
                  <a:off x="2732040" y="2909880"/>
                  <a:ext cx="1209960" cy="18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바탕"/>
                    </a:rPr>
                    <a:t>DEVID_DTCA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2669760" y="2909880"/>
                  <a:ext cx="1334880" cy="185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7" name=""/>
              <p:cNvGrpSpPr/>
              <p:nvPr/>
            </p:nvGrpSpPr>
            <p:grpSpPr>
              <a:xfrm>
                <a:off x="4004640" y="2909880"/>
                <a:ext cx="1001160" cy="185400"/>
                <a:chOff x="4004640" y="2909880"/>
                <a:chExt cx="1001160" cy="185400"/>
              </a:xfrm>
            </p:grpSpPr>
            <p:sp>
              <p:nvSpPr>
                <p:cNvPr id="178" name=""/>
                <p:cNvSpPr/>
                <p:nvPr/>
              </p:nvSpPr>
              <p:spPr>
                <a:xfrm>
                  <a:off x="4067280" y="2909880"/>
                  <a:ext cx="875880" cy="18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바탕"/>
                    </a:rPr>
                    <a:t>0x09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4004640" y="2909880"/>
                  <a:ext cx="1001160" cy="185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0" name=""/>
              <p:cNvGrpSpPr/>
              <p:nvPr/>
            </p:nvGrpSpPr>
            <p:grpSpPr>
              <a:xfrm>
                <a:off x="5006160" y="2909880"/>
                <a:ext cx="3829320" cy="185400"/>
                <a:chOff x="5006160" y="2909880"/>
                <a:chExt cx="3829320" cy="18540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5068440" y="2909880"/>
                  <a:ext cx="3704040" cy="18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바탕"/>
                    </a:rPr>
                    <a:t>CAS Digital Trunk (E1/T1)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5006160" y="2909880"/>
                  <a:ext cx="3829320" cy="185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3" name=""/>
              <p:cNvGrpSpPr/>
              <p:nvPr/>
            </p:nvGrpSpPr>
            <p:grpSpPr>
              <a:xfrm>
                <a:off x="2669760" y="3095280"/>
                <a:ext cx="1334880" cy="185400"/>
                <a:chOff x="2669760" y="3095280"/>
                <a:chExt cx="1334880" cy="18540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2732040" y="3095280"/>
                  <a:ext cx="1209960" cy="18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바탕"/>
                    </a:rPr>
                    <a:t>DEVID_LKD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2669760" y="3095280"/>
                  <a:ext cx="1334880" cy="185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6" name=""/>
              <p:cNvGrpSpPr/>
              <p:nvPr/>
            </p:nvGrpSpPr>
            <p:grpSpPr>
              <a:xfrm>
                <a:off x="4004640" y="3095280"/>
                <a:ext cx="1001160" cy="185400"/>
                <a:chOff x="4004640" y="3095280"/>
                <a:chExt cx="1001160" cy="185400"/>
              </a:xfrm>
            </p:grpSpPr>
            <p:sp>
              <p:nvSpPr>
                <p:cNvPr id="187" name=""/>
                <p:cNvSpPr/>
                <p:nvPr/>
              </p:nvSpPr>
              <p:spPr>
                <a:xfrm>
                  <a:off x="4067280" y="3095280"/>
                  <a:ext cx="875880" cy="18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바탕"/>
                    </a:rPr>
                    <a:t>0x0A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4004640" y="3095280"/>
                  <a:ext cx="1001160" cy="185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9" name=""/>
              <p:cNvGrpSpPr/>
              <p:nvPr/>
            </p:nvGrpSpPr>
            <p:grpSpPr>
              <a:xfrm>
                <a:off x="5006160" y="3095280"/>
                <a:ext cx="3829320" cy="185400"/>
                <a:chOff x="5006160" y="3095280"/>
                <a:chExt cx="3829320" cy="185400"/>
              </a:xfrm>
            </p:grpSpPr>
            <p:sp>
              <p:nvSpPr>
                <p:cNvPr id="190" name=""/>
                <p:cNvSpPr/>
                <p:nvPr/>
              </p:nvSpPr>
              <p:spPr>
                <a:xfrm>
                  <a:off x="5068440" y="3095280"/>
                  <a:ext cx="3704040" cy="18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바탕"/>
                    </a:rPr>
                    <a:t>LKD D-Tel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5006160" y="3095280"/>
                  <a:ext cx="3829320" cy="185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2" name=""/>
              <p:cNvGrpSpPr/>
              <p:nvPr/>
            </p:nvGrpSpPr>
            <p:grpSpPr>
              <a:xfrm>
                <a:off x="2669760" y="3281040"/>
                <a:ext cx="1334880" cy="185760"/>
                <a:chOff x="2669760" y="3281040"/>
                <a:chExt cx="1334880" cy="185760"/>
              </a:xfrm>
            </p:grpSpPr>
            <p:sp>
              <p:nvSpPr>
                <p:cNvPr id="193" name=""/>
                <p:cNvSpPr/>
                <p:nvPr/>
              </p:nvSpPr>
              <p:spPr>
                <a:xfrm>
                  <a:off x="2732040" y="3281040"/>
                  <a:ext cx="1209960" cy="18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바탕"/>
                    </a:rPr>
                    <a:t>DEVID_DSL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2669760" y="3281040"/>
                  <a:ext cx="1334880" cy="185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5" name=""/>
              <p:cNvGrpSpPr/>
              <p:nvPr/>
            </p:nvGrpSpPr>
            <p:grpSpPr>
              <a:xfrm>
                <a:off x="4004640" y="3281040"/>
                <a:ext cx="1001160" cy="185760"/>
                <a:chOff x="4004640" y="3281040"/>
                <a:chExt cx="1001160" cy="185760"/>
              </a:xfrm>
            </p:grpSpPr>
            <p:sp>
              <p:nvSpPr>
                <p:cNvPr id="196" name=""/>
                <p:cNvSpPr/>
                <p:nvPr/>
              </p:nvSpPr>
              <p:spPr>
                <a:xfrm>
                  <a:off x="4067280" y="3281040"/>
                  <a:ext cx="875880" cy="18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바탕"/>
                    </a:rPr>
                    <a:t>0x0B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>
                  <a:off x="4004640" y="3281040"/>
                  <a:ext cx="1001160" cy="185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8" name=""/>
              <p:cNvGrpSpPr/>
              <p:nvPr/>
            </p:nvGrpSpPr>
            <p:grpSpPr>
              <a:xfrm>
                <a:off x="5006160" y="3281040"/>
                <a:ext cx="3829320" cy="185760"/>
                <a:chOff x="5006160" y="3281040"/>
                <a:chExt cx="3829320" cy="185760"/>
              </a:xfrm>
            </p:grpSpPr>
            <p:sp>
              <p:nvSpPr>
                <p:cNvPr id="199" name=""/>
                <p:cNvSpPr/>
                <p:nvPr/>
              </p:nvSpPr>
              <p:spPr>
                <a:xfrm>
                  <a:off x="5068440" y="3281040"/>
                  <a:ext cx="3704040" cy="18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바탕"/>
                    </a:rPr>
                    <a:t>DSLC (LGP or LKD)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5006160" y="3281040"/>
                  <a:ext cx="3829320" cy="185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1" name=""/>
              <p:cNvGrpSpPr/>
              <p:nvPr/>
            </p:nvGrpSpPr>
            <p:grpSpPr>
              <a:xfrm>
                <a:off x="2669760" y="3466800"/>
                <a:ext cx="1334880" cy="185400"/>
                <a:chOff x="2669760" y="3466800"/>
                <a:chExt cx="1334880" cy="185400"/>
              </a:xfrm>
            </p:grpSpPr>
            <p:sp>
              <p:nvSpPr>
                <p:cNvPr id="202" name=""/>
                <p:cNvSpPr/>
                <p:nvPr/>
              </p:nvSpPr>
              <p:spPr>
                <a:xfrm>
                  <a:off x="2732040" y="3466800"/>
                  <a:ext cx="1209960" cy="18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바탕"/>
                    </a:rPr>
                    <a:t>DEVID_VPM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2669760" y="3466800"/>
                  <a:ext cx="1334880" cy="185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4" name=""/>
              <p:cNvGrpSpPr/>
              <p:nvPr/>
            </p:nvGrpSpPr>
            <p:grpSpPr>
              <a:xfrm>
                <a:off x="4004640" y="3466800"/>
                <a:ext cx="1001160" cy="185400"/>
                <a:chOff x="4004640" y="3466800"/>
                <a:chExt cx="1001160" cy="185400"/>
              </a:xfrm>
            </p:grpSpPr>
            <p:sp>
              <p:nvSpPr>
                <p:cNvPr id="205" name=""/>
                <p:cNvSpPr/>
                <p:nvPr/>
              </p:nvSpPr>
              <p:spPr>
                <a:xfrm>
                  <a:off x="4067280" y="3466800"/>
                  <a:ext cx="875880" cy="18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바탕"/>
                    </a:rPr>
                    <a:t>0x0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4004640" y="3466800"/>
                  <a:ext cx="1001160" cy="185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7" name=""/>
              <p:cNvGrpSpPr/>
              <p:nvPr/>
            </p:nvGrpSpPr>
            <p:grpSpPr>
              <a:xfrm>
                <a:off x="5006160" y="3466800"/>
                <a:ext cx="3829320" cy="185400"/>
                <a:chOff x="5006160" y="3466800"/>
                <a:chExt cx="3829320" cy="185400"/>
              </a:xfrm>
            </p:grpSpPr>
            <p:sp>
              <p:nvSpPr>
                <p:cNvPr id="208" name=""/>
                <p:cNvSpPr/>
                <p:nvPr/>
              </p:nvSpPr>
              <p:spPr>
                <a:xfrm>
                  <a:off x="5068440" y="3466800"/>
                  <a:ext cx="3704040" cy="18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바탕"/>
                    </a:rPr>
                    <a:t>Voice Server Processor Module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5006160" y="3466800"/>
                  <a:ext cx="3829320" cy="185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2669760" y="3652560"/>
                <a:ext cx="1334880" cy="185400"/>
                <a:chOff x="2669760" y="3652560"/>
                <a:chExt cx="1334880" cy="18540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2732040" y="3652560"/>
                  <a:ext cx="1209960" cy="18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바탕"/>
                    </a:rPr>
                    <a:t>DEVID_DTPRI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2669760" y="3652560"/>
                  <a:ext cx="1334880" cy="185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3" name=""/>
              <p:cNvGrpSpPr/>
              <p:nvPr/>
            </p:nvGrpSpPr>
            <p:grpSpPr>
              <a:xfrm>
                <a:off x="4004640" y="3652560"/>
                <a:ext cx="1001160" cy="185400"/>
                <a:chOff x="4004640" y="3652560"/>
                <a:chExt cx="1001160" cy="185400"/>
              </a:xfrm>
            </p:grpSpPr>
            <p:sp>
              <p:nvSpPr>
                <p:cNvPr id="214" name=""/>
                <p:cNvSpPr/>
                <p:nvPr/>
              </p:nvSpPr>
              <p:spPr>
                <a:xfrm>
                  <a:off x="4067280" y="3652560"/>
                  <a:ext cx="875880" cy="18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바탕"/>
                    </a:rPr>
                    <a:t>0x0E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4004640" y="3652560"/>
                  <a:ext cx="1001160" cy="185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6" name=""/>
              <p:cNvGrpSpPr/>
              <p:nvPr/>
            </p:nvGrpSpPr>
            <p:grpSpPr>
              <a:xfrm>
                <a:off x="5006160" y="3652560"/>
                <a:ext cx="3829320" cy="185400"/>
                <a:chOff x="5006160" y="3652560"/>
                <a:chExt cx="3829320" cy="185400"/>
              </a:xfrm>
            </p:grpSpPr>
            <p:sp>
              <p:nvSpPr>
                <p:cNvPr id="217" name=""/>
                <p:cNvSpPr/>
                <p:nvPr/>
              </p:nvSpPr>
              <p:spPr>
                <a:xfrm>
                  <a:off x="5068440" y="3652560"/>
                  <a:ext cx="3704040" cy="18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바탕"/>
                    </a:rPr>
                    <a:t>PRI Digital Trunk (E1/T1)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5006160" y="3652560"/>
                  <a:ext cx="3829320" cy="185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2669760" y="3838320"/>
                <a:ext cx="1334880" cy="185760"/>
                <a:chOff x="2669760" y="3838320"/>
                <a:chExt cx="1334880" cy="185760"/>
              </a:xfrm>
            </p:grpSpPr>
            <p:sp>
              <p:nvSpPr>
                <p:cNvPr id="220" name=""/>
                <p:cNvSpPr/>
                <p:nvPr/>
              </p:nvSpPr>
              <p:spPr>
                <a:xfrm>
                  <a:off x="2732040" y="3838320"/>
                  <a:ext cx="1209960" cy="18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바탕"/>
                    </a:rPr>
                    <a:t>DEVID_BRIST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2669760" y="3838320"/>
                  <a:ext cx="1334880" cy="185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2" name=""/>
              <p:cNvGrpSpPr/>
              <p:nvPr/>
            </p:nvGrpSpPr>
            <p:grpSpPr>
              <a:xfrm>
                <a:off x="4004640" y="3838320"/>
                <a:ext cx="1001160" cy="185760"/>
                <a:chOff x="4004640" y="3838320"/>
                <a:chExt cx="1001160" cy="185760"/>
              </a:xfrm>
            </p:grpSpPr>
            <p:sp>
              <p:nvSpPr>
                <p:cNvPr id="223" name=""/>
                <p:cNvSpPr/>
                <p:nvPr/>
              </p:nvSpPr>
              <p:spPr>
                <a:xfrm>
                  <a:off x="4067280" y="3838320"/>
                  <a:ext cx="875880" cy="18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바탕"/>
                    </a:rPr>
                    <a:t>0x10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4004640" y="3838320"/>
                  <a:ext cx="1001160" cy="185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5" name=""/>
              <p:cNvGrpSpPr/>
              <p:nvPr/>
            </p:nvGrpSpPr>
            <p:grpSpPr>
              <a:xfrm>
                <a:off x="5006160" y="3838320"/>
                <a:ext cx="3829320" cy="185760"/>
                <a:chOff x="5006160" y="3838320"/>
                <a:chExt cx="3829320" cy="185760"/>
              </a:xfrm>
            </p:grpSpPr>
            <p:sp>
              <p:nvSpPr>
                <p:cNvPr id="226" name=""/>
                <p:cNvSpPr/>
                <p:nvPr/>
              </p:nvSpPr>
              <p:spPr>
                <a:xfrm>
                  <a:off x="5068440" y="3838320"/>
                  <a:ext cx="3704040" cy="18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바탕"/>
                    </a:rPr>
                    <a:t>BRI Station and Trunk circuit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5006160" y="3838320"/>
                  <a:ext cx="3829320" cy="185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2669760" y="4024080"/>
                <a:ext cx="1334880" cy="185400"/>
                <a:chOff x="2669760" y="4024080"/>
                <a:chExt cx="1334880" cy="18540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2732040" y="4024080"/>
                  <a:ext cx="1209960" cy="18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바탕"/>
                    </a:rPr>
                    <a:t>DEVID_APT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2669760" y="4024080"/>
                  <a:ext cx="1334880" cy="185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1" name=""/>
              <p:cNvGrpSpPr/>
              <p:nvPr/>
            </p:nvGrpSpPr>
            <p:grpSpPr>
              <a:xfrm>
                <a:off x="4004640" y="4024080"/>
                <a:ext cx="1001160" cy="185400"/>
                <a:chOff x="4004640" y="4024080"/>
                <a:chExt cx="1001160" cy="18540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4067280" y="4024080"/>
                  <a:ext cx="875880" cy="18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바탕"/>
                    </a:rPr>
                    <a:t>0x11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4004640" y="4024080"/>
                  <a:ext cx="1001160" cy="185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4" name=""/>
              <p:cNvGrpSpPr/>
              <p:nvPr/>
            </p:nvGrpSpPr>
            <p:grpSpPr>
              <a:xfrm>
                <a:off x="5006160" y="4024080"/>
                <a:ext cx="3829320" cy="185400"/>
                <a:chOff x="5006160" y="4024080"/>
                <a:chExt cx="3829320" cy="185400"/>
              </a:xfrm>
            </p:grpSpPr>
            <p:sp>
              <p:nvSpPr>
                <p:cNvPr id="235" name=""/>
                <p:cNvSpPr/>
                <p:nvPr/>
              </p:nvSpPr>
              <p:spPr>
                <a:xfrm>
                  <a:off x="5068440" y="4024080"/>
                  <a:ext cx="3704040" cy="18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바탕"/>
                    </a:rPr>
                    <a:t>Analogue PSTN Trunk Circuit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5006160" y="4024080"/>
                  <a:ext cx="3829320" cy="185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7" name=""/>
              <p:cNvGrpSpPr/>
              <p:nvPr/>
            </p:nvGrpSpPr>
            <p:grpSpPr>
              <a:xfrm>
                <a:off x="2669760" y="4209480"/>
                <a:ext cx="1334880" cy="185400"/>
                <a:chOff x="2669760" y="4209480"/>
                <a:chExt cx="1334880" cy="185400"/>
              </a:xfrm>
            </p:grpSpPr>
            <p:sp>
              <p:nvSpPr>
                <p:cNvPr id="238" name=""/>
                <p:cNvSpPr/>
                <p:nvPr/>
              </p:nvSpPr>
              <p:spPr>
                <a:xfrm>
                  <a:off x="2732040" y="4209480"/>
                  <a:ext cx="1209960" cy="18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바탕"/>
                    </a:rPr>
                    <a:t>DEVID_ALT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2669760" y="4209480"/>
                  <a:ext cx="1334880" cy="185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0" name=""/>
              <p:cNvGrpSpPr/>
              <p:nvPr/>
            </p:nvGrpSpPr>
            <p:grpSpPr>
              <a:xfrm>
                <a:off x="4004640" y="4209480"/>
                <a:ext cx="1001160" cy="185400"/>
                <a:chOff x="4004640" y="4209480"/>
                <a:chExt cx="1001160" cy="185400"/>
              </a:xfrm>
            </p:grpSpPr>
            <p:sp>
              <p:nvSpPr>
                <p:cNvPr id="241" name=""/>
                <p:cNvSpPr/>
                <p:nvPr/>
              </p:nvSpPr>
              <p:spPr>
                <a:xfrm>
                  <a:off x="4067280" y="4209480"/>
                  <a:ext cx="875880" cy="18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바탕"/>
                    </a:rPr>
                    <a:t>0x12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4004640" y="4209480"/>
                  <a:ext cx="1001160" cy="185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3" name=""/>
              <p:cNvGrpSpPr/>
              <p:nvPr/>
            </p:nvGrpSpPr>
            <p:grpSpPr>
              <a:xfrm>
                <a:off x="5006160" y="4209480"/>
                <a:ext cx="3829320" cy="185400"/>
                <a:chOff x="5006160" y="4209480"/>
                <a:chExt cx="3829320" cy="185400"/>
              </a:xfrm>
            </p:grpSpPr>
            <p:sp>
              <p:nvSpPr>
                <p:cNvPr id="244" name=""/>
                <p:cNvSpPr/>
                <p:nvPr/>
              </p:nvSpPr>
              <p:spPr>
                <a:xfrm>
                  <a:off x="5068440" y="4209480"/>
                  <a:ext cx="3704040" cy="18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바탕"/>
                    </a:rPr>
                    <a:t>Analogue Leased Trunk Circuit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5006160" y="4209480"/>
                  <a:ext cx="3829320" cy="185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6" name=""/>
              <p:cNvGrpSpPr/>
              <p:nvPr/>
            </p:nvGrpSpPr>
            <p:grpSpPr>
              <a:xfrm>
                <a:off x="2669760" y="4395240"/>
                <a:ext cx="1334880" cy="185760"/>
                <a:chOff x="2669760" y="4395240"/>
                <a:chExt cx="1334880" cy="185760"/>
              </a:xfrm>
            </p:grpSpPr>
            <p:sp>
              <p:nvSpPr>
                <p:cNvPr id="247" name=""/>
                <p:cNvSpPr/>
                <p:nvPr/>
              </p:nvSpPr>
              <p:spPr>
                <a:xfrm>
                  <a:off x="2732040" y="4395240"/>
                  <a:ext cx="1209960" cy="18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바탕"/>
                    </a:rPr>
                    <a:t>DEVID_DTVM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2669760" y="4395240"/>
                  <a:ext cx="1334880" cy="185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9" name=""/>
              <p:cNvGrpSpPr/>
              <p:nvPr/>
            </p:nvGrpSpPr>
            <p:grpSpPr>
              <a:xfrm>
                <a:off x="4004640" y="4395240"/>
                <a:ext cx="1001160" cy="185760"/>
                <a:chOff x="4004640" y="4395240"/>
                <a:chExt cx="1001160" cy="185760"/>
              </a:xfrm>
            </p:grpSpPr>
            <p:sp>
              <p:nvSpPr>
                <p:cNvPr id="250" name=""/>
                <p:cNvSpPr/>
                <p:nvPr/>
              </p:nvSpPr>
              <p:spPr>
                <a:xfrm>
                  <a:off x="4067280" y="4395240"/>
                  <a:ext cx="875880" cy="18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바탕"/>
                    </a:rPr>
                    <a:t>0x13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4004640" y="4395240"/>
                  <a:ext cx="1001160" cy="185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2" name=""/>
              <p:cNvGrpSpPr/>
              <p:nvPr/>
            </p:nvGrpSpPr>
            <p:grpSpPr>
              <a:xfrm>
                <a:off x="5006160" y="4395240"/>
                <a:ext cx="3829320" cy="185760"/>
                <a:chOff x="5006160" y="4395240"/>
                <a:chExt cx="3829320" cy="18576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5068440" y="4395240"/>
                  <a:ext cx="3704040" cy="18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바탕"/>
                    </a:rPr>
                    <a:t>DNIC-DTCAS External VMS Interface Board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5006160" y="4395240"/>
                  <a:ext cx="3829320" cy="185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5" name=""/>
              <p:cNvGrpSpPr/>
              <p:nvPr/>
            </p:nvGrpSpPr>
            <p:grpSpPr>
              <a:xfrm>
                <a:off x="2669760" y="4581000"/>
                <a:ext cx="1334880" cy="185400"/>
                <a:chOff x="2669760" y="4581000"/>
                <a:chExt cx="1334880" cy="185400"/>
              </a:xfrm>
            </p:grpSpPr>
            <p:sp>
              <p:nvSpPr>
                <p:cNvPr id="256" name=""/>
                <p:cNvSpPr/>
                <p:nvPr/>
              </p:nvSpPr>
              <p:spPr>
                <a:xfrm>
                  <a:off x="2732040" y="4581000"/>
                  <a:ext cx="1209960" cy="18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바탕"/>
                    </a:rPr>
                    <a:t>DEVID_DTRU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2669760" y="4581000"/>
                  <a:ext cx="1334880" cy="185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8" name=""/>
              <p:cNvGrpSpPr/>
              <p:nvPr/>
            </p:nvGrpSpPr>
            <p:grpSpPr>
              <a:xfrm>
                <a:off x="4004640" y="4581000"/>
                <a:ext cx="1001160" cy="185400"/>
                <a:chOff x="4004640" y="4581000"/>
                <a:chExt cx="1001160" cy="185400"/>
              </a:xfrm>
            </p:grpSpPr>
            <p:sp>
              <p:nvSpPr>
                <p:cNvPr id="259" name=""/>
                <p:cNvSpPr/>
                <p:nvPr/>
              </p:nvSpPr>
              <p:spPr>
                <a:xfrm>
                  <a:off x="4067280" y="4581000"/>
                  <a:ext cx="875880" cy="18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바탕"/>
                    </a:rPr>
                    <a:t>0x14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4004640" y="4581000"/>
                  <a:ext cx="1001160" cy="185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1" name=""/>
              <p:cNvGrpSpPr/>
              <p:nvPr/>
            </p:nvGrpSpPr>
            <p:grpSpPr>
              <a:xfrm>
                <a:off x="5006160" y="4581000"/>
                <a:ext cx="3829320" cy="185400"/>
                <a:chOff x="5006160" y="4581000"/>
                <a:chExt cx="3829320" cy="185400"/>
              </a:xfrm>
            </p:grpSpPr>
            <p:sp>
              <p:nvSpPr>
                <p:cNvPr id="262" name=""/>
                <p:cNvSpPr/>
                <p:nvPr/>
              </p:nvSpPr>
              <p:spPr>
                <a:xfrm>
                  <a:off x="5068440" y="4581000"/>
                  <a:ext cx="3704040" cy="18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바탕"/>
                    </a:rPr>
                    <a:t>Russia Digital Trunk(E1)  : 001010 KHG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5006160" y="4581000"/>
                  <a:ext cx="3829320" cy="185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4" name=""/>
              <p:cNvGrpSpPr/>
              <p:nvPr/>
            </p:nvGrpSpPr>
            <p:grpSpPr>
              <a:xfrm>
                <a:off x="2669760" y="4766760"/>
                <a:ext cx="1334880" cy="185400"/>
                <a:chOff x="2669760" y="4766760"/>
                <a:chExt cx="1334880" cy="185400"/>
              </a:xfrm>
            </p:grpSpPr>
            <p:sp>
              <p:nvSpPr>
                <p:cNvPr id="265" name=""/>
                <p:cNvSpPr/>
                <p:nvPr/>
              </p:nvSpPr>
              <p:spPr>
                <a:xfrm>
                  <a:off x="2732040" y="4766760"/>
                  <a:ext cx="1209960" cy="18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바탕"/>
                    </a:rPr>
                    <a:t>DEVID_SHUTTLE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2669760" y="4766760"/>
                  <a:ext cx="1334880" cy="185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7" name=""/>
              <p:cNvGrpSpPr/>
              <p:nvPr/>
            </p:nvGrpSpPr>
            <p:grpSpPr>
              <a:xfrm>
                <a:off x="4004640" y="4766760"/>
                <a:ext cx="1001160" cy="185400"/>
                <a:chOff x="4004640" y="4766760"/>
                <a:chExt cx="1001160" cy="18540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4067280" y="4766760"/>
                  <a:ext cx="875880" cy="18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바탕"/>
                    </a:rPr>
                    <a:t>0x15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4004640" y="4766760"/>
                  <a:ext cx="1001160" cy="185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0" name=""/>
              <p:cNvGrpSpPr/>
              <p:nvPr/>
            </p:nvGrpSpPr>
            <p:grpSpPr>
              <a:xfrm>
                <a:off x="5006160" y="4766760"/>
                <a:ext cx="3829320" cy="185400"/>
                <a:chOff x="5006160" y="4766760"/>
                <a:chExt cx="3829320" cy="185400"/>
              </a:xfrm>
            </p:grpSpPr>
            <p:sp>
              <p:nvSpPr>
                <p:cNvPr id="271" name=""/>
                <p:cNvSpPr/>
                <p:nvPr/>
              </p:nvSpPr>
              <p:spPr>
                <a:xfrm>
                  <a:off x="5068440" y="4766760"/>
                  <a:ext cx="3704040" cy="18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바탕"/>
                    </a:rPr>
                    <a:t>Shuttle using RMFC        : 001010 KHG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5006160" y="4766760"/>
                  <a:ext cx="3829320" cy="185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3" name=""/>
              <p:cNvGrpSpPr/>
              <p:nvPr/>
            </p:nvGrpSpPr>
            <p:grpSpPr>
              <a:xfrm>
                <a:off x="2669760" y="4952160"/>
                <a:ext cx="1334880" cy="185760"/>
                <a:chOff x="2669760" y="4952160"/>
                <a:chExt cx="1334880" cy="18576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2732040" y="4952160"/>
                  <a:ext cx="1209960" cy="18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바탕"/>
                    </a:rPr>
                    <a:t>DEVID_RCM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2669760" y="4952160"/>
                  <a:ext cx="1334880" cy="185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6" name=""/>
              <p:cNvGrpSpPr/>
              <p:nvPr/>
            </p:nvGrpSpPr>
            <p:grpSpPr>
              <a:xfrm>
                <a:off x="4004640" y="4952160"/>
                <a:ext cx="1001160" cy="185760"/>
                <a:chOff x="4004640" y="4952160"/>
                <a:chExt cx="1001160" cy="185760"/>
              </a:xfrm>
            </p:grpSpPr>
            <p:sp>
              <p:nvSpPr>
                <p:cNvPr id="277" name=""/>
                <p:cNvSpPr/>
                <p:nvPr/>
              </p:nvSpPr>
              <p:spPr>
                <a:xfrm>
                  <a:off x="4067280" y="4952160"/>
                  <a:ext cx="875880" cy="18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바탕"/>
                    </a:rPr>
                    <a:t>0x18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4004640" y="4952160"/>
                  <a:ext cx="1001160" cy="185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9" name=""/>
              <p:cNvGrpSpPr/>
              <p:nvPr/>
            </p:nvGrpSpPr>
            <p:grpSpPr>
              <a:xfrm>
                <a:off x="5006160" y="4952160"/>
                <a:ext cx="3829320" cy="185760"/>
                <a:chOff x="5006160" y="4952160"/>
                <a:chExt cx="3829320" cy="185760"/>
              </a:xfrm>
            </p:grpSpPr>
            <p:sp>
              <p:nvSpPr>
                <p:cNvPr id="280" name=""/>
                <p:cNvSpPr/>
                <p:nvPr/>
              </p:nvSpPr>
              <p:spPr>
                <a:xfrm>
                  <a:off x="5068440" y="4952160"/>
                  <a:ext cx="3704040" cy="18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바탕"/>
                    </a:rPr>
                    <a:t>Router Circuit for NC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5006160" y="4952160"/>
                  <a:ext cx="3829320" cy="185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2" name=""/>
              <p:cNvGrpSpPr/>
              <p:nvPr/>
            </p:nvGrpSpPr>
            <p:grpSpPr>
              <a:xfrm>
                <a:off x="2669760" y="5138280"/>
                <a:ext cx="1334880" cy="185400"/>
                <a:chOff x="2669760" y="5138280"/>
                <a:chExt cx="1334880" cy="185400"/>
              </a:xfrm>
            </p:grpSpPr>
            <p:sp>
              <p:nvSpPr>
                <p:cNvPr id="283" name=""/>
                <p:cNvSpPr/>
                <p:nvPr/>
              </p:nvSpPr>
              <p:spPr>
                <a:xfrm>
                  <a:off x="2732040" y="5138280"/>
                  <a:ext cx="1209960" cy="18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바탕"/>
                    </a:rPr>
                    <a:t>DEVID_PSM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2669760" y="5138280"/>
                  <a:ext cx="1334880" cy="185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5" name=""/>
              <p:cNvGrpSpPr/>
              <p:nvPr/>
            </p:nvGrpSpPr>
            <p:grpSpPr>
              <a:xfrm>
                <a:off x="4004640" y="5138280"/>
                <a:ext cx="1001160" cy="185400"/>
                <a:chOff x="4004640" y="5138280"/>
                <a:chExt cx="1001160" cy="185400"/>
              </a:xfrm>
            </p:grpSpPr>
            <p:sp>
              <p:nvSpPr>
                <p:cNvPr id="286" name=""/>
                <p:cNvSpPr/>
                <p:nvPr/>
              </p:nvSpPr>
              <p:spPr>
                <a:xfrm>
                  <a:off x="4067280" y="5138280"/>
                  <a:ext cx="875880" cy="18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바탕"/>
                    </a:rPr>
                    <a:t>0x19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4004640" y="5138280"/>
                  <a:ext cx="1001160" cy="185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8" name=""/>
              <p:cNvGrpSpPr/>
              <p:nvPr/>
            </p:nvGrpSpPr>
            <p:grpSpPr>
              <a:xfrm>
                <a:off x="5006160" y="5138280"/>
                <a:ext cx="3829320" cy="185400"/>
                <a:chOff x="5006160" y="5138280"/>
                <a:chExt cx="3829320" cy="185400"/>
              </a:xfrm>
            </p:grpSpPr>
            <p:sp>
              <p:nvSpPr>
                <p:cNvPr id="289" name=""/>
                <p:cNvSpPr/>
                <p:nvPr/>
              </p:nvSpPr>
              <p:spPr>
                <a:xfrm>
                  <a:off x="5068440" y="5138280"/>
                  <a:ext cx="3704040" cy="18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바탕"/>
                    </a:rPr>
                    <a:t>Packet switch module for NC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5006160" y="5138280"/>
                  <a:ext cx="3829320" cy="185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1" name=""/>
              <p:cNvGrpSpPr/>
              <p:nvPr/>
            </p:nvGrpSpPr>
            <p:grpSpPr>
              <a:xfrm>
                <a:off x="2669760" y="5323680"/>
                <a:ext cx="1334880" cy="185400"/>
                <a:chOff x="2669760" y="5323680"/>
                <a:chExt cx="1334880" cy="185400"/>
              </a:xfrm>
            </p:grpSpPr>
            <p:sp>
              <p:nvSpPr>
                <p:cNvPr id="292" name=""/>
                <p:cNvSpPr/>
                <p:nvPr/>
              </p:nvSpPr>
              <p:spPr>
                <a:xfrm>
                  <a:off x="2732040" y="5323680"/>
                  <a:ext cx="1209960" cy="18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바탕"/>
                    </a:rPr>
                    <a:t>DEVID_PS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2669760" y="5323680"/>
                  <a:ext cx="1334880" cy="185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4" name=""/>
              <p:cNvGrpSpPr/>
              <p:nvPr/>
            </p:nvGrpSpPr>
            <p:grpSpPr>
              <a:xfrm>
                <a:off x="4004640" y="5323680"/>
                <a:ext cx="1001160" cy="185400"/>
                <a:chOff x="4004640" y="5323680"/>
                <a:chExt cx="1001160" cy="185400"/>
              </a:xfrm>
            </p:grpSpPr>
            <p:sp>
              <p:nvSpPr>
                <p:cNvPr id="295" name=""/>
                <p:cNvSpPr/>
                <p:nvPr/>
              </p:nvSpPr>
              <p:spPr>
                <a:xfrm>
                  <a:off x="4067280" y="5323680"/>
                  <a:ext cx="875880" cy="18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바탕"/>
                    </a:rPr>
                    <a:t>0x1A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4004640" y="5323680"/>
                  <a:ext cx="1001160" cy="185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7" name=""/>
              <p:cNvGrpSpPr/>
              <p:nvPr/>
            </p:nvGrpSpPr>
            <p:grpSpPr>
              <a:xfrm>
                <a:off x="5006160" y="5323680"/>
                <a:ext cx="3829320" cy="185400"/>
                <a:chOff x="5006160" y="5323680"/>
                <a:chExt cx="3829320" cy="185400"/>
              </a:xfrm>
            </p:grpSpPr>
            <p:sp>
              <p:nvSpPr>
                <p:cNvPr id="298" name=""/>
                <p:cNvSpPr/>
                <p:nvPr/>
              </p:nvSpPr>
              <p:spPr>
                <a:xfrm>
                  <a:off x="5068440" y="5323680"/>
                  <a:ext cx="3704040" cy="18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바탕"/>
                    </a:rPr>
                    <a:t>Packet switch circuit for NC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5006160" y="5323680"/>
                  <a:ext cx="3829320" cy="185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0" name=""/>
              <p:cNvGrpSpPr/>
              <p:nvPr/>
            </p:nvGrpSpPr>
            <p:grpSpPr>
              <a:xfrm>
                <a:off x="2669760" y="5509440"/>
                <a:ext cx="1334880" cy="185760"/>
                <a:chOff x="2669760" y="5509440"/>
                <a:chExt cx="1334880" cy="185760"/>
              </a:xfrm>
            </p:grpSpPr>
            <p:sp>
              <p:nvSpPr>
                <p:cNvPr id="301" name=""/>
                <p:cNvSpPr/>
                <p:nvPr/>
              </p:nvSpPr>
              <p:spPr>
                <a:xfrm>
                  <a:off x="2732040" y="5509440"/>
                  <a:ext cx="1209960" cy="18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바탕"/>
                    </a:rPr>
                    <a:t>DEVID_ITG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2669760" y="5509440"/>
                  <a:ext cx="1334880" cy="185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3" name=""/>
              <p:cNvGrpSpPr/>
              <p:nvPr/>
            </p:nvGrpSpPr>
            <p:grpSpPr>
              <a:xfrm>
                <a:off x="4004640" y="5509440"/>
                <a:ext cx="1001160" cy="185760"/>
                <a:chOff x="4004640" y="5509440"/>
                <a:chExt cx="1001160" cy="185760"/>
              </a:xfrm>
            </p:grpSpPr>
            <p:sp>
              <p:nvSpPr>
                <p:cNvPr id="304" name=""/>
                <p:cNvSpPr/>
                <p:nvPr/>
              </p:nvSpPr>
              <p:spPr>
                <a:xfrm>
                  <a:off x="4067280" y="5509440"/>
                  <a:ext cx="875880" cy="18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바탕"/>
                    </a:rPr>
                    <a:t>0x1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4004640" y="5509440"/>
                  <a:ext cx="1001160" cy="185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6" name=""/>
              <p:cNvGrpSpPr/>
              <p:nvPr/>
            </p:nvGrpSpPr>
            <p:grpSpPr>
              <a:xfrm>
                <a:off x="5006160" y="5509440"/>
                <a:ext cx="3829320" cy="185760"/>
                <a:chOff x="5006160" y="5509440"/>
                <a:chExt cx="3829320" cy="185760"/>
              </a:xfrm>
            </p:grpSpPr>
            <p:sp>
              <p:nvSpPr>
                <p:cNvPr id="307" name=""/>
                <p:cNvSpPr/>
                <p:nvPr/>
              </p:nvSpPr>
              <p:spPr>
                <a:xfrm>
                  <a:off x="5068440" y="5509440"/>
                  <a:ext cx="3704040" cy="18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바탕"/>
                    </a:rPr>
                    <a:t>Internet Telephone Gateway Circuit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5006160" y="5509440"/>
                  <a:ext cx="3829320" cy="185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9" name=""/>
              <p:cNvGrpSpPr/>
              <p:nvPr/>
            </p:nvGrpSpPr>
            <p:grpSpPr>
              <a:xfrm>
                <a:off x="2669760" y="5695200"/>
                <a:ext cx="1334880" cy="185400"/>
                <a:chOff x="2669760" y="5695200"/>
                <a:chExt cx="1334880" cy="185400"/>
              </a:xfrm>
            </p:grpSpPr>
            <p:sp>
              <p:nvSpPr>
                <p:cNvPr id="310" name=""/>
                <p:cNvSpPr/>
                <p:nvPr/>
              </p:nvSpPr>
              <p:spPr>
                <a:xfrm>
                  <a:off x="2732040" y="5695200"/>
                  <a:ext cx="1209960" cy="18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바탕"/>
                    </a:rPr>
                    <a:t>DEVID_LKD2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2669760" y="5695200"/>
                  <a:ext cx="1334880" cy="185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2" name=""/>
              <p:cNvGrpSpPr/>
              <p:nvPr/>
            </p:nvGrpSpPr>
            <p:grpSpPr>
              <a:xfrm>
                <a:off x="4004640" y="5695200"/>
                <a:ext cx="1001160" cy="185400"/>
                <a:chOff x="4004640" y="5695200"/>
                <a:chExt cx="1001160" cy="185400"/>
              </a:xfrm>
            </p:grpSpPr>
            <p:sp>
              <p:nvSpPr>
                <p:cNvPr id="313" name=""/>
                <p:cNvSpPr/>
                <p:nvPr/>
              </p:nvSpPr>
              <p:spPr>
                <a:xfrm>
                  <a:off x="4067280" y="5695200"/>
                  <a:ext cx="875880" cy="18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바탕"/>
                    </a:rPr>
                    <a:t>0x1D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4004640" y="5695200"/>
                  <a:ext cx="1001160" cy="185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5" name=""/>
              <p:cNvGrpSpPr/>
              <p:nvPr/>
            </p:nvGrpSpPr>
            <p:grpSpPr>
              <a:xfrm>
                <a:off x="5006160" y="5695200"/>
                <a:ext cx="3829320" cy="185400"/>
                <a:chOff x="5006160" y="5695200"/>
                <a:chExt cx="3829320" cy="185400"/>
              </a:xfrm>
            </p:grpSpPr>
            <p:sp>
              <p:nvSpPr>
                <p:cNvPr id="316" name=""/>
                <p:cNvSpPr/>
                <p:nvPr/>
              </p:nvSpPr>
              <p:spPr>
                <a:xfrm>
                  <a:off x="5068440" y="5695200"/>
                  <a:ext cx="3704040" cy="18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바탕"/>
                    </a:rPr>
                    <a:t>LKD2 D-Tel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5006160" y="5695200"/>
                  <a:ext cx="3829320" cy="185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8" name=""/>
              <p:cNvGrpSpPr/>
              <p:nvPr/>
            </p:nvGrpSpPr>
            <p:grpSpPr>
              <a:xfrm>
                <a:off x="2669760" y="5880960"/>
                <a:ext cx="1334880" cy="185400"/>
                <a:chOff x="2669760" y="5880960"/>
                <a:chExt cx="1334880" cy="185400"/>
              </a:xfrm>
            </p:grpSpPr>
            <p:sp>
              <p:nvSpPr>
                <p:cNvPr id="319" name=""/>
                <p:cNvSpPr/>
                <p:nvPr/>
              </p:nvSpPr>
              <p:spPr>
                <a:xfrm>
                  <a:off x="2732040" y="5880960"/>
                  <a:ext cx="1209960" cy="18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바탕"/>
                    </a:rPr>
                    <a:t>DEVID_WTI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2669760" y="5880960"/>
                  <a:ext cx="1334880" cy="185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1" name=""/>
              <p:cNvGrpSpPr/>
              <p:nvPr/>
            </p:nvGrpSpPr>
            <p:grpSpPr>
              <a:xfrm>
                <a:off x="4004640" y="5880960"/>
                <a:ext cx="1001160" cy="185400"/>
                <a:chOff x="4004640" y="5880960"/>
                <a:chExt cx="1001160" cy="185400"/>
              </a:xfrm>
            </p:grpSpPr>
            <p:sp>
              <p:nvSpPr>
                <p:cNvPr id="322" name=""/>
                <p:cNvSpPr/>
                <p:nvPr/>
              </p:nvSpPr>
              <p:spPr>
                <a:xfrm>
                  <a:off x="4067280" y="5880960"/>
                  <a:ext cx="875880" cy="18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바탕"/>
                    </a:rPr>
                    <a:t>0x1E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3" name=""/>
                <p:cNvSpPr/>
                <p:nvPr/>
              </p:nvSpPr>
              <p:spPr>
                <a:xfrm>
                  <a:off x="4004640" y="5880960"/>
                  <a:ext cx="1001160" cy="185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4" name=""/>
              <p:cNvGrpSpPr/>
              <p:nvPr/>
            </p:nvGrpSpPr>
            <p:grpSpPr>
              <a:xfrm>
                <a:off x="5006160" y="5880960"/>
                <a:ext cx="3829320" cy="185400"/>
                <a:chOff x="5006160" y="5880960"/>
                <a:chExt cx="3829320" cy="185400"/>
              </a:xfrm>
            </p:grpSpPr>
            <p:sp>
              <p:nvSpPr>
                <p:cNvPr id="325" name=""/>
                <p:cNvSpPr/>
                <p:nvPr/>
              </p:nvSpPr>
              <p:spPr>
                <a:xfrm>
                  <a:off x="5068440" y="5880960"/>
                  <a:ext cx="3704040" cy="18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바탕"/>
                    </a:rPr>
                    <a:t>WTIC Device (DECT 1~96)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6" name=""/>
                <p:cNvSpPr/>
                <p:nvPr/>
              </p:nvSpPr>
              <p:spPr>
                <a:xfrm>
                  <a:off x="5006160" y="5880960"/>
                  <a:ext cx="3829320" cy="185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7" name=""/>
              <p:cNvGrpSpPr/>
              <p:nvPr/>
            </p:nvGrpSpPr>
            <p:grpSpPr>
              <a:xfrm>
                <a:off x="2669760" y="6066360"/>
                <a:ext cx="1334880" cy="185760"/>
                <a:chOff x="2669760" y="6066360"/>
                <a:chExt cx="1334880" cy="185760"/>
              </a:xfrm>
            </p:grpSpPr>
            <p:sp>
              <p:nvSpPr>
                <p:cNvPr id="328" name=""/>
                <p:cNvSpPr/>
                <p:nvPr/>
              </p:nvSpPr>
              <p:spPr>
                <a:xfrm>
                  <a:off x="2732040" y="6066360"/>
                  <a:ext cx="1209960" cy="18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바탕"/>
                    </a:rPr>
                    <a:t>DEVID_APM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9" name=""/>
                <p:cNvSpPr/>
                <p:nvPr/>
              </p:nvSpPr>
              <p:spPr>
                <a:xfrm>
                  <a:off x="2669760" y="6066360"/>
                  <a:ext cx="1334880" cy="185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0" name=""/>
              <p:cNvGrpSpPr/>
              <p:nvPr/>
            </p:nvGrpSpPr>
            <p:grpSpPr>
              <a:xfrm>
                <a:off x="4004640" y="6066360"/>
                <a:ext cx="1001160" cy="185760"/>
                <a:chOff x="4004640" y="6066360"/>
                <a:chExt cx="1001160" cy="185760"/>
              </a:xfrm>
            </p:grpSpPr>
            <p:sp>
              <p:nvSpPr>
                <p:cNvPr id="331" name=""/>
                <p:cNvSpPr/>
                <p:nvPr/>
              </p:nvSpPr>
              <p:spPr>
                <a:xfrm>
                  <a:off x="4067280" y="6066360"/>
                  <a:ext cx="875880" cy="18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바탕"/>
                    </a:rPr>
                    <a:t>0x1F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2" name=""/>
                <p:cNvSpPr/>
                <p:nvPr/>
              </p:nvSpPr>
              <p:spPr>
                <a:xfrm>
                  <a:off x="4004640" y="6066360"/>
                  <a:ext cx="1001160" cy="185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3" name=""/>
              <p:cNvGrpSpPr/>
              <p:nvPr/>
            </p:nvGrpSpPr>
            <p:grpSpPr>
              <a:xfrm>
                <a:off x="5006160" y="6066360"/>
                <a:ext cx="3829320" cy="185760"/>
                <a:chOff x="5006160" y="6066360"/>
                <a:chExt cx="3829320" cy="185760"/>
              </a:xfrm>
            </p:grpSpPr>
            <p:sp>
              <p:nvSpPr>
                <p:cNvPr id="334" name=""/>
                <p:cNvSpPr/>
                <p:nvPr/>
              </p:nvSpPr>
              <p:spPr>
                <a:xfrm>
                  <a:off x="5068440" y="6066360"/>
                  <a:ext cx="3704040" cy="18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ko-KR" sz="1000" spc="-1" strike="noStrike">
                      <a:solidFill>
                        <a:srgbClr val="000000"/>
                      </a:solidFill>
                      <a:latin typeface="Times New Roman"/>
                      <a:ea typeface="바탕"/>
                    </a:rPr>
                    <a:t>Application Processor Moduler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5" name=""/>
                <p:cNvSpPr/>
                <p:nvPr/>
              </p:nvSpPr>
              <p:spPr>
                <a:xfrm>
                  <a:off x="5006160" y="6066360"/>
                  <a:ext cx="3829320" cy="185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6" name=""/>
              <p:cNvGrpSpPr/>
              <p:nvPr/>
            </p:nvGrpSpPr>
            <p:grpSpPr>
              <a:xfrm>
                <a:off x="2669760" y="6252120"/>
                <a:ext cx="1334880" cy="185400"/>
                <a:chOff x="2669760" y="6252120"/>
                <a:chExt cx="1334880" cy="185400"/>
              </a:xfrm>
            </p:grpSpPr>
            <p:sp>
              <p:nvSpPr>
                <p:cNvPr id="337" name=""/>
                <p:cNvSpPr/>
                <p:nvPr/>
              </p:nvSpPr>
              <p:spPr>
                <a:xfrm>
                  <a:off x="2732040" y="6252120"/>
                  <a:ext cx="1209960" cy="18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바탕"/>
                    </a:rPr>
                    <a:t>DEVID_MAX_NO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8" name=""/>
                <p:cNvSpPr/>
                <p:nvPr/>
              </p:nvSpPr>
              <p:spPr>
                <a:xfrm>
                  <a:off x="2669760" y="6252120"/>
                  <a:ext cx="1334880" cy="185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9" name=""/>
              <p:cNvGrpSpPr/>
              <p:nvPr/>
            </p:nvGrpSpPr>
            <p:grpSpPr>
              <a:xfrm>
                <a:off x="4004640" y="6252120"/>
                <a:ext cx="1001160" cy="185400"/>
                <a:chOff x="4004640" y="6252120"/>
                <a:chExt cx="1001160" cy="185400"/>
              </a:xfrm>
            </p:grpSpPr>
            <p:sp>
              <p:nvSpPr>
                <p:cNvPr id="340" name=""/>
                <p:cNvSpPr/>
                <p:nvPr/>
              </p:nvSpPr>
              <p:spPr>
                <a:xfrm>
                  <a:off x="4067280" y="6252120"/>
                  <a:ext cx="875880" cy="18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바탕"/>
                    </a:rPr>
                    <a:t>0x20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4004640" y="6252120"/>
                  <a:ext cx="1001160" cy="185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2" name=""/>
              <p:cNvGrpSpPr/>
              <p:nvPr/>
            </p:nvGrpSpPr>
            <p:grpSpPr>
              <a:xfrm>
                <a:off x="5006160" y="6252120"/>
                <a:ext cx="3829320" cy="185400"/>
                <a:chOff x="5006160" y="6252120"/>
                <a:chExt cx="3829320" cy="185400"/>
              </a:xfrm>
            </p:grpSpPr>
            <p:sp>
              <p:nvSpPr>
                <p:cNvPr id="343" name=""/>
                <p:cNvSpPr/>
                <p:nvPr/>
              </p:nvSpPr>
              <p:spPr>
                <a:xfrm>
                  <a:off x="5068440" y="6252120"/>
                  <a:ext cx="3704040" cy="18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바탕"/>
                    </a:rPr>
                    <a:t>Device Boundary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>
                  <a:off x="5006160" y="6252120"/>
                  <a:ext cx="3829320" cy="185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45" name=""/>
            <p:cNvSpPr/>
            <p:nvPr/>
          </p:nvSpPr>
          <p:spPr>
            <a:xfrm>
              <a:off x="2666880" y="1790640"/>
              <a:ext cx="6172200" cy="4648320"/>
            </a:xfrm>
            <a:prstGeom prst="rect">
              <a:avLst/>
            </a:prstGeom>
            <a:noFill/>
            <a:ln w="648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3600" rIns="936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BCCA0C-45AF-44C4-8323-7FDE06C7582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80520" y="378000"/>
            <a:ext cx="853452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Trace File Message</a:t>
            </a:r>
            <a:endParaRPr b="1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228240" y="1905120"/>
            <a:ext cx="8915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130000"/>
              </a:lnSpc>
              <a:spcBef>
                <a:spcPts val="349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  <a:ea typeface="굴림체"/>
              </a:rPr>
              <a:t>[22] 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  <a:ea typeface="굴림체"/>
              </a:rPr>
              <a:t>	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  <a:ea typeface="굴림체"/>
              </a:rPr>
              <a:t>	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  <a:ea typeface="굴림체"/>
              </a:rPr>
              <a:t>: Function Code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343080" indent="0" algn="just">
              <a:lnSpc>
                <a:spcPct val="130000"/>
              </a:lnSpc>
              <a:spcBef>
                <a:spcPts val="34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 algn="just">
              <a:lnSpc>
                <a:spcPct val="130000"/>
              </a:lnSpc>
              <a:spcBef>
                <a:spcPts val="349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  <a:ea typeface="굴림체"/>
              </a:rPr>
              <a:t>EVT:Off_Hook.. 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  <a:ea typeface="굴림체"/>
              </a:rPr>
              <a:t>	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  <a:ea typeface="굴림체"/>
              </a:rPr>
              <a:t>: Function Code (22) Description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343080" indent="0" algn="just">
              <a:lnSpc>
                <a:spcPct val="130000"/>
              </a:lnSpc>
              <a:spcBef>
                <a:spcPts val="34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 algn="just">
              <a:lnSpc>
                <a:spcPct val="130000"/>
              </a:lnSpc>
              <a:spcBef>
                <a:spcPts val="349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  <a:ea typeface="굴림체"/>
              </a:rPr>
              <a:t>[00/00]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  <a:ea typeface="굴림체"/>
              </a:rPr>
              <a:t>	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  <a:ea typeface="굴림체"/>
              </a:rPr>
              <a:t>	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  <a:ea typeface="굴림체"/>
              </a:rPr>
              <a:t>: Main State / Sub Stat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343080" indent="0" algn="just">
              <a:lnSpc>
                <a:spcPct val="130000"/>
              </a:lnSpc>
              <a:spcBef>
                <a:spcPts val="34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30000"/>
              </a:lnSpc>
              <a:spcBef>
                <a:spcPts val="349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  <a:ea typeface="굴림체"/>
              </a:rPr>
              <a:t>00 01 01 ca 8e 64 01 ff 24 7e a9 : Data(10Bytes) + Check_Sum(1Byte)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8" name=""/>
          <p:cNvSpPr/>
          <p:nvPr/>
        </p:nvSpPr>
        <p:spPr>
          <a:xfrm>
            <a:off x="1150200" y="1398600"/>
            <a:ext cx="6908760" cy="328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3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  <a:ea typeface="굴림체"/>
              </a:rPr>
              <a:t>E0c0 &lt;AE-&gt;CA&gt; [01][22] EVT:OffHook.... [00/00] 00 00 00 00 00 00 00 00 00 00 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253EA8-0F01-4B14-AD70-760AD0C4CC4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380520" y="378000"/>
            <a:ext cx="853452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Command</a:t>
            </a:r>
            <a:endParaRPr b="1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350" name="" descr=""/>
          <p:cNvPicPr/>
          <p:nvPr/>
        </p:nvPicPr>
        <p:blipFill>
          <a:blip r:embed="rId1"/>
          <a:stretch/>
        </p:blipFill>
        <p:spPr>
          <a:xfrm>
            <a:off x="2666880" y="1371600"/>
            <a:ext cx="5867640" cy="5105520"/>
          </a:xfrm>
          <a:prstGeom prst="rect">
            <a:avLst/>
          </a:prstGeom>
          <a:ln w="0">
            <a:noFill/>
          </a:ln>
        </p:spPr>
      </p:pic>
      <p:sp>
        <p:nvSpPr>
          <p:cNvPr id="351" name=""/>
          <p:cNvSpPr/>
          <p:nvPr/>
        </p:nvSpPr>
        <p:spPr>
          <a:xfrm>
            <a:off x="380880" y="1295280"/>
            <a:ext cx="221004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help / 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380880" y="3886200"/>
            <a:ext cx="221004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exit / e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DB3C19-4436-413E-B6D6-D72C3B5055F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80520" y="378000"/>
            <a:ext cx="853452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Trace Command</a:t>
            </a:r>
            <a:endParaRPr b="1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TL  a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: Trace All Ports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TL port#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: Trace Port#1 ………. Port#8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DV no#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: Trace Device from No.1 ~ No.8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TM no#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: Trace Message from No.1 ~ No.8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ITL c (port#1 … port#8)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: Trace ISDN(QSIG) Message All Ports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(QTL)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              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: ( or port#1...#7) with the Complete Mode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ITL f (port#1..#7)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: Trace ISDN(QSIG) Message All Ports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(QTL) 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: (or port#1...#7) with the Call Flow Mode.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IPBTL 1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: Trace ISDN Message in the form of PB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STLN port#1.port#8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: Signal Trace port#1 ..... port#8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STDV no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: Signal Trace Device No.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FC5BF8-814A-4CB1-80A3-4CBC9E288C6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Жабин Михаил</cp:lastModifiedBy>
  <dcterms:modified xsi:type="dcterms:W3CDTF">2001-09-07T05:28:22Z</dcterms:modified>
  <cp:revision>1</cp:revision>
  <dc:subject/>
  <dc:title>TRACE </dc:title>
</cp:coreProperties>
</file>